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899B-69ED-4E85-BE46-8E51CE492AE6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roposições de Val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Marcas Mundialmente Conheci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Disciplina na Logís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Produtos de Excelência com Rigoroso controle de origem e em conformidade com as exigências regulatór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Atividade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Confinamento e Abatimento de Bovinos, Aves, Ovinos e Suí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Recurso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Banco Original S.A – cobertura total nas operações da empresa no Bras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Sociedade do B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arceiros C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Aquisições e Parcerias com empresas Multinacionais (Swift, Pilgrim`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712E-8923-4CBC-81C7-056E5FD7A9AE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businessmodelgeneration.con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100080" y="1204920"/>
            <a:ext cx="12802680" cy="8554680"/>
            <a:chOff x="100080" y="1204920"/>
            <a:chExt cx="12802680" cy="8554680"/>
          </a:xfrm>
        </p:grpSpPr>
        <p:grpSp>
          <p:nvGrpSpPr>
            <p:cNvPr id="44" name="Group 2"/>
            <p:cNvGrpSpPr/>
            <p:nvPr/>
          </p:nvGrpSpPr>
          <p:grpSpPr>
            <a:xfrm>
              <a:off x="100080" y="7127280"/>
              <a:ext cx="6414120" cy="2382120"/>
              <a:chOff x="100080" y="7127280"/>
              <a:chExt cx="6414120" cy="2382120"/>
            </a:xfrm>
          </p:grpSpPr>
          <p:sp>
            <p:nvSpPr>
              <p:cNvPr id="45" name="AutoShape 3"/>
              <p:cNvSpPr/>
              <p:nvPr/>
            </p:nvSpPr>
            <p:spPr>
              <a:xfrm>
                <a:off x="138240" y="7149600"/>
                <a:ext cx="635076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00080" y="7127280"/>
                <a:ext cx="641412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Group 5"/>
            <p:cNvGrpSpPr/>
            <p:nvPr/>
          </p:nvGrpSpPr>
          <p:grpSpPr>
            <a:xfrm>
              <a:off x="10299240" y="1338120"/>
              <a:ext cx="2603520" cy="5833080"/>
              <a:chOff x="10299240" y="1338120"/>
              <a:chExt cx="2603520" cy="5833080"/>
            </a:xfrm>
          </p:grpSpPr>
          <p:sp>
            <p:nvSpPr>
              <p:cNvPr id="48" name="AutoShape 6"/>
              <p:cNvSpPr/>
              <p:nvPr/>
            </p:nvSpPr>
            <p:spPr>
              <a:xfrm>
                <a:off x="1033740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9924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" name="Group 8"/>
            <p:cNvGrpSpPr/>
            <p:nvPr/>
          </p:nvGrpSpPr>
          <p:grpSpPr>
            <a:xfrm>
              <a:off x="6476040" y="7127280"/>
              <a:ext cx="6413760" cy="2382120"/>
              <a:chOff x="6476040" y="7127280"/>
              <a:chExt cx="6413760" cy="2382120"/>
            </a:xfrm>
          </p:grpSpPr>
          <p:sp>
            <p:nvSpPr>
              <p:cNvPr id="51" name="AutoShape 9"/>
              <p:cNvSpPr/>
              <p:nvPr/>
            </p:nvSpPr>
            <p:spPr>
              <a:xfrm>
                <a:off x="6514200" y="7149600"/>
                <a:ext cx="635040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2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040" y="7127280"/>
                <a:ext cx="641376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oup 11"/>
            <p:cNvGrpSpPr/>
            <p:nvPr/>
          </p:nvGrpSpPr>
          <p:grpSpPr>
            <a:xfrm>
              <a:off x="113040" y="1338120"/>
              <a:ext cx="2603160" cy="5833080"/>
              <a:chOff x="113040" y="1338120"/>
              <a:chExt cx="2603160" cy="5833080"/>
            </a:xfrm>
          </p:grpSpPr>
          <p:sp>
            <p:nvSpPr>
              <p:cNvPr id="54" name="AutoShape 12"/>
              <p:cNvSpPr/>
              <p:nvPr/>
            </p:nvSpPr>
            <p:spPr>
              <a:xfrm>
                <a:off x="150840" y="1360440"/>
                <a:ext cx="2539440" cy="5788080"/>
              </a:xfrm>
              <a:custGeom>
                <a:avLst/>
                <a:gdLst>
                  <a:gd name="textAreaLeft" fmla="*/ 55440 w 2539440"/>
                  <a:gd name="textAreaRight" fmla="*/ 2484000 w 2539440"/>
                  <a:gd name="textAreaTop" fmla="*/ 55440 h 5788080"/>
                  <a:gd name="textAreaBottom" fmla="*/ 5732640 h 5788080"/>
                </a:gdLst>
                <a:ahLst/>
                <a:rect l="textAreaLeft" t="textAreaTop" r="textAreaRight" b="textAreaBottom"/>
                <a:pathLst>
                  <a:path w="21600" h="49228">
                    <a:moveTo>
                      <a:pt x="1620" y="0"/>
                    </a:moveTo>
                    <a:arcTo wR="1620" hR="1620" stAng="16200000" swAng="-5400000"/>
                    <a:lnTo>
                      <a:pt x="0" y="47608"/>
                    </a:lnTo>
                    <a:arcTo wR="1620" hR="1620" stAng="10800000" swAng="-5400000"/>
                    <a:lnTo>
                      <a:pt x="19980" y="49228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5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040" y="1338120"/>
                <a:ext cx="260316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Rectangle 14"/>
            <p:cNvSpPr/>
            <p:nvPr/>
          </p:nvSpPr>
          <p:spPr>
            <a:xfrm>
              <a:off x="176400" y="9470520"/>
              <a:ext cx="3302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Helvetica Neue Light"/>
                  <a:ea typeface="MS PGothic"/>
                  <a:hlinkClick r:id="rId5"/>
                </a:rPr>
                <a:t>www.businessmodelgeneration.com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grpSp>
          <p:nvGrpSpPr>
            <p:cNvPr id="57" name="Group 15"/>
            <p:cNvGrpSpPr/>
            <p:nvPr/>
          </p:nvGrpSpPr>
          <p:grpSpPr>
            <a:xfrm>
              <a:off x="5193360" y="1338120"/>
              <a:ext cx="2603520" cy="5833080"/>
              <a:chOff x="5193360" y="1338120"/>
              <a:chExt cx="2603520" cy="5833080"/>
            </a:xfrm>
          </p:grpSpPr>
          <p:sp>
            <p:nvSpPr>
              <p:cNvPr id="58" name="AutoShape 16"/>
              <p:cNvSpPr/>
              <p:nvPr/>
            </p:nvSpPr>
            <p:spPr>
              <a:xfrm>
                <a:off x="523152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9" name="Pictur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9336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Group 18"/>
            <p:cNvGrpSpPr/>
            <p:nvPr/>
          </p:nvGrpSpPr>
          <p:grpSpPr>
            <a:xfrm>
              <a:off x="7743240" y="4228560"/>
              <a:ext cx="2603520" cy="2939040"/>
              <a:chOff x="7743240" y="4228560"/>
              <a:chExt cx="2603520" cy="2939040"/>
            </a:xfrm>
          </p:grpSpPr>
          <p:sp>
            <p:nvSpPr>
              <p:cNvPr id="61" name="AutoShape 19"/>
              <p:cNvSpPr/>
              <p:nvPr/>
            </p:nvSpPr>
            <p:spPr>
              <a:xfrm>
                <a:off x="7784640" y="42548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2" name="Pictur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743240" y="422856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Group 21"/>
            <p:cNvGrpSpPr/>
            <p:nvPr/>
          </p:nvGrpSpPr>
          <p:grpSpPr>
            <a:xfrm>
              <a:off x="7746120" y="1338120"/>
              <a:ext cx="2603520" cy="2939040"/>
              <a:chOff x="7746120" y="1338120"/>
              <a:chExt cx="2603520" cy="2939040"/>
            </a:xfrm>
          </p:grpSpPr>
          <p:sp>
            <p:nvSpPr>
              <p:cNvPr id="64" name="AutoShape 22"/>
              <p:cNvSpPr/>
              <p:nvPr/>
            </p:nvSpPr>
            <p:spPr>
              <a:xfrm>
                <a:off x="778428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5" name="Pictur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612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Group 24"/>
            <p:cNvGrpSpPr/>
            <p:nvPr/>
          </p:nvGrpSpPr>
          <p:grpSpPr>
            <a:xfrm>
              <a:off x="2640240" y="4232880"/>
              <a:ext cx="2603520" cy="2938680"/>
              <a:chOff x="2640240" y="4232880"/>
              <a:chExt cx="2603520" cy="2938680"/>
            </a:xfrm>
          </p:grpSpPr>
          <p:sp>
            <p:nvSpPr>
              <p:cNvPr id="67" name="AutoShape 25"/>
              <p:cNvSpPr/>
              <p:nvPr/>
            </p:nvSpPr>
            <p:spPr>
              <a:xfrm>
                <a:off x="2678400" y="4255200"/>
                <a:ext cx="2539800" cy="289404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040"/>
                  <a:gd name="textAreaBottom" fmla="*/ 2838240 h 2894040"/>
                </a:gdLst>
                <a:ahLst/>
                <a:rect l="textAreaLeft" t="textAreaTop" r="textAreaRight" b="textAreaBottom"/>
                <a:pathLst>
                  <a:path w="21600" h="24612">
                    <a:moveTo>
                      <a:pt x="1620" y="0"/>
                    </a:moveTo>
                    <a:arcTo wR="1620" hR="1620" stAng="16200000" swAng="-5400000"/>
                    <a:lnTo>
                      <a:pt x="0" y="22992"/>
                    </a:lnTo>
                    <a:arcTo wR="1620" hR="1620" stAng="10800000" swAng="-5400000"/>
                    <a:lnTo>
                      <a:pt x="19980" y="24612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8" name="Picture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2640240" y="4232880"/>
                <a:ext cx="2603520" cy="293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Picture 27" descr=""/>
            <p:cNvPicPr/>
            <p:nvPr/>
          </p:nvPicPr>
          <p:blipFill>
            <a:blip r:embed="rId10"/>
            <a:stretch/>
          </p:blipFill>
          <p:spPr>
            <a:xfrm>
              <a:off x="220680" y="720504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28"/>
            <p:cNvGrpSpPr/>
            <p:nvPr/>
          </p:nvGrpSpPr>
          <p:grpSpPr>
            <a:xfrm>
              <a:off x="2640240" y="1338120"/>
              <a:ext cx="2603520" cy="2939040"/>
              <a:chOff x="2640240" y="1338120"/>
              <a:chExt cx="2603520" cy="2939040"/>
            </a:xfrm>
          </p:grpSpPr>
          <p:sp>
            <p:nvSpPr>
              <p:cNvPr id="71" name="AutoShape 29"/>
              <p:cNvSpPr/>
              <p:nvPr/>
            </p:nvSpPr>
            <p:spPr>
              <a:xfrm>
                <a:off x="267840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72" name="Picture 3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4024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31" descr=""/>
            <p:cNvPicPr/>
            <p:nvPr/>
          </p:nvPicPr>
          <p:blipFill>
            <a:blip r:embed="rId12"/>
            <a:stretch/>
          </p:blipFill>
          <p:spPr>
            <a:xfrm>
              <a:off x="21456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2" descr=""/>
            <p:cNvPicPr/>
            <p:nvPr/>
          </p:nvPicPr>
          <p:blipFill>
            <a:blip r:embed="rId13"/>
            <a:stretch/>
          </p:blipFill>
          <p:spPr>
            <a:xfrm>
              <a:off x="530748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3" descr=""/>
            <p:cNvPicPr/>
            <p:nvPr/>
          </p:nvPicPr>
          <p:blipFill>
            <a:blip r:embed="rId14"/>
            <a:stretch/>
          </p:blipFill>
          <p:spPr>
            <a:xfrm>
              <a:off x="12239280" y="14065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4" descr=""/>
            <p:cNvPicPr/>
            <p:nvPr/>
          </p:nvPicPr>
          <p:blipFill>
            <a:blip r:embed="rId15"/>
            <a:stretch/>
          </p:blipFill>
          <p:spPr>
            <a:xfrm>
              <a:off x="7876440" y="43189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5" descr=""/>
            <p:cNvPicPr/>
            <p:nvPr/>
          </p:nvPicPr>
          <p:blipFill>
            <a:blip r:embed="rId16"/>
            <a:stretch/>
          </p:blipFill>
          <p:spPr>
            <a:xfrm>
              <a:off x="2743200" y="4288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6" descr=""/>
            <p:cNvPicPr/>
            <p:nvPr/>
          </p:nvPicPr>
          <p:blipFill>
            <a:blip r:embed="rId17"/>
            <a:stretch/>
          </p:blipFill>
          <p:spPr>
            <a:xfrm>
              <a:off x="6604920" y="71938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7" descr=""/>
            <p:cNvPicPr/>
            <p:nvPr/>
          </p:nvPicPr>
          <p:blipFill>
            <a:blip r:embed="rId18"/>
            <a:stretch/>
          </p:blipFill>
          <p:spPr>
            <a:xfrm>
              <a:off x="2746440" y="1399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8" descr=""/>
            <p:cNvPicPr/>
            <p:nvPr/>
          </p:nvPicPr>
          <p:blipFill>
            <a:blip r:embed="rId19"/>
            <a:stretch/>
          </p:blipFill>
          <p:spPr>
            <a:xfrm>
              <a:off x="7708320" y="1204920"/>
              <a:ext cx="88884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39"/>
            <p:cNvSpPr/>
            <p:nvPr/>
          </p:nvSpPr>
          <p:spPr>
            <a:xfrm>
              <a:off x="938520" y="7305120"/>
              <a:ext cx="2539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Estrutura de Custo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2" name="Rectangle 40"/>
            <p:cNvSpPr/>
            <p:nvPr/>
          </p:nvSpPr>
          <p:spPr>
            <a:xfrm>
              <a:off x="7327080" y="7299720"/>
              <a:ext cx="24876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Fontes de Receita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3" name="Rectangle 41"/>
            <p:cNvSpPr/>
            <p:nvPr/>
          </p:nvSpPr>
          <p:spPr>
            <a:xfrm>
              <a:off x="3402360" y="4427640"/>
              <a:ext cx="17272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curso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" name="Rectangle 42"/>
            <p:cNvSpPr/>
            <p:nvPr/>
          </p:nvSpPr>
          <p:spPr>
            <a:xfrm>
              <a:off x="344052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Atividades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" name="Rectangle 43"/>
            <p:cNvSpPr/>
            <p:nvPr/>
          </p:nvSpPr>
          <p:spPr>
            <a:xfrm>
              <a:off x="87480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arceiros 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6" name="Rectangle 44"/>
            <p:cNvSpPr/>
            <p:nvPr/>
          </p:nvSpPr>
          <p:spPr>
            <a:xfrm>
              <a:off x="6005880" y="1371600"/>
              <a:ext cx="1576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roposições de Valor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7" name="Rectangle 45"/>
            <p:cNvSpPr/>
            <p:nvPr/>
          </p:nvSpPr>
          <p:spPr>
            <a:xfrm>
              <a:off x="8375040" y="1416240"/>
              <a:ext cx="1944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lacionamento com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8" name="Rectangle 46"/>
            <p:cNvSpPr/>
            <p:nvPr/>
          </p:nvSpPr>
          <p:spPr>
            <a:xfrm>
              <a:off x="10629720" y="1371600"/>
              <a:ext cx="15490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Segmentos de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9" name="Rectangle 47"/>
            <p:cNvSpPr/>
            <p:nvPr/>
          </p:nvSpPr>
          <p:spPr>
            <a:xfrm>
              <a:off x="8622720" y="4433040"/>
              <a:ext cx="1726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anai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sp>
        <p:nvSpPr>
          <p:cNvPr id="90" name="Rectangle 50"/>
          <p:cNvSpPr/>
          <p:nvPr/>
        </p:nvSpPr>
        <p:spPr>
          <a:xfrm>
            <a:off x="5423040" y="2905200"/>
            <a:ext cx="205560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Marcas Mundiai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ciplina na Logístic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Rigoroso controle de origem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0"/>
          <a:stretch/>
        </p:blipFill>
        <p:spPr>
          <a:xfrm>
            <a:off x="380880" y="162000"/>
            <a:ext cx="2198880" cy="774720"/>
          </a:xfrm>
          <a:prstGeom prst="rect">
            <a:avLst/>
          </a:prstGeom>
          <a:ln w="0">
            <a:noFill/>
          </a:ln>
        </p:spPr>
      </p:pic>
      <p:sp>
        <p:nvSpPr>
          <p:cNvPr id="92" name="Retângulo 55"/>
          <p:cNvSpPr/>
          <p:nvPr/>
        </p:nvSpPr>
        <p:spPr>
          <a:xfrm>
            <a:off x="2757600" y="22320"/>
            <a:ext cx="650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Helvetica Neue Light"/>
              </a:rPr>
              <a:t>Novos Modelos de Empresas </a:t>
            </a:r>
            <a:r>
              <a:rPr b="0" lang="pt-BR" sz="1400" spc="-1" strike="noStrike">
                <a:solidFill>
                  <a:srgbClr val="000000"/>
                </a:solidFill>
                <a:latin typeface="Helvetica Neue Light"/>
              </a:rPr>
              <a:t>– Prof. Luciel Henrique de Oliveira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po 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arla Federeghi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Diego Cadete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Luciano Buzo dos Santos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ulo Hidalgo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" name="Imagem 6" descr=""/>
          <p:cNvPicPr/>
          <p:nvPr/>
        </p:nvPicPr>
        <p:blipFill>
          <a:blip r:embed="rId21"/>
          <a:stretch/>
        </p:blipFill>
        <p:spPr>
          <a:xfrm>
            <a:off x="10534680" y="196920"/>
            <a:ext cx="2260440" cy="984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0"/>
          <p:cNvSpPr/>
          <p:nvPr/>
        </p:nvSpPr>
        <p:spPr>
          <a:xfrm>
            <a:off x="414360" y="234504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quisições e Parcerias com empresas Multinacionais (Swift, Pilgrim`s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Rectangle 50"/>
          <p:cNvSpPr/>
          <p:nvPr/>
        </p:nvSpPr>
        <p:spPr>
          <a:xfrm>
            <a:off x="2901960" y="239112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bati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7942320" y="4946040"/>
            <a:ext cx="2055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tribuidores &amp; Exporta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Publicidade Intens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944800" y="5007960"/>
            <a:ext cx="20559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riação do Banco Original S.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Sociedade do BND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10605960" y="4033440"/>
            <a:ext cx="20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sumidore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8015400" y="2828520"/>
            <a:ext cx="2055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munidad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7581960" y="8046720"/>
            <a:ext cx="352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Venda de Proteín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2614680" y="7813440"/>
            <a:ext cx="3311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, Abatimento e Logística de Distribui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001pmsa</cp:lastModifiedBy>
  <dcterms:modified xsi:type="dcterms:W3CDTF">2014-04-07T20:09:33Z</dcterms:modified>
  <cp:revision>8</cp:revision>
  <dc:subject/>
  <dc:title>Business Model Canvas</dc:title>
</cp:coreProperties>
</file>