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iemens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iemens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14BA-24DC-498B-B72D-31A50D06F523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AB1E-0755-4025-927B-2C1BFBDFCFB3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5AFD-BE6E-49DD-BE73-AB40BE80FB0F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7D2F-5DFC-47F1-BA62-E06B8DF7F579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C0AD-4676-4B2A-89C2-BD137D0809EC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0060-5579-49DC-817C-FFD6EC306C45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2001-0346-44FB-9F81-BAB16FE625B8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A64A-DF55-4CE4-9514-D2BFA4F8BE51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A338-4F99-4D61-9254-21FEE06B909F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A3FA-E24E-4C76-8421-637471E6C8AB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48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4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48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4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620280"/>
            <a:ext cx="8209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48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04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92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48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04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620280"/>
            <a:ext cx="8209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7"/>
          <p:cNvSpPr/>
          <p:nvPr/>
        </p:nvSpPr>
        <p:spPr>
          <a:xfrm>
            <a:off x="554040" y="6488280"/>
            <a:ext cx="878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6925EB7-469A-4E4B-A84E-B47AEACD5BF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8"/>
          <p:cNvSpPr/>
          <p:nvPr/>
        </p:nvSpPr>
        <p:spPr>
          <a:xfrm>
            <a:off x="1889280" y="6488280"/>
            <a:ext cx="9651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ctober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-1886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3120" indent="-1904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5"/>
          <p:cNvSpPr/>
          <p:nvPr/>
        </p:nvSpPr>
        <p:spPr>
          <a:xfrm>
            <a:off x="6121440" y="6488280"/>
            <a:ext cx="2635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uster Brazil / F&amp;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26"/>
          <p:cNvSpPr/>
          <p:nvPr/>
        </p:nvSpPr>
        <p:spPr>
          <a:xfrm>
            <a:off x="3154320" y="6489720"/>
            <a:ext cx="249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ntone, Cla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68"/>
          <p:cNvSpPr/>
          <p:nvPr/>
        </p:nvSpPr>
        <p:spPr>
          <a:xfrm>
            <a:off x="285840" y="620640"/>
            <a:ext cx="8858160" cy="97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3" descr="http://www.trabalhismoemdebate.com.br/wp-content/uploads/2012/01/cooperativa.jpg"/>
          <p:cNvPicPr/>
          <p:nvPr/>
        </p:nvPicPr>
        <p:blipFill>
          <a:blip r:embed="rId2"/>
          <a:stretch/>
        </p:blipFill>
        <p:spPr>
          <a:xfrm>
            <a:off x="4643280" y="6502320"/>
            <a:ext cx="289080" cy="23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67"/>
          <p:cNvSpPr/>
          <p:nvPr/>
        </p:nvSpPr>
        <p:spPr>
          <a:xfrm>
            <a:off x="285840" y="620640"/>
            <a:ext cx="8858160" cy="97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2"/>
          <a:stretch/>
        </p:blipFill>
        <p:spPr>
          <a:xfrm>
            <a:off x="7093080" y="765000"/>
            <a:ext cx="178884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-1886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3120" indent="-1904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tângulo 21"/>
          <p:cNvSpPr/>
          <p:nvPr/>
        </p:nvSpPr>
        <p:spPr>
          <a:xfrm>
            <a:off x="0" y="0"/>
            <a:ext cx="9252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9360" y="1255680"/>
            <a:ext cx="9252000" cy="258120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9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agem 16" descr="jbs.jpg"/>
          <p:cNvPicPr/>
          <p:nvPr/>
        </p:nvPicPr>
        <p:blipFill>
          <a:blip r:embed="rId2"/>
          <a:stretch/>
        </p:blipFill>
        <p:spPr>
          <a:xfrm>
            <a:off x="36360" y="4149720"/>
            <a:ext cx="9215640" cy="2708280"/>
          </a:xfrm>
          <a:prstGeom prst="rect">
            <a:avLst/>
          </a:prstGeom>
          <a:ln w="0">
            <a:noFill/>
          </a:ln>
        </p:spPr>
      </p:pic>
      <p:sp>
        <p:nvSpPr>
          <p:cNvPr id="98" name="CaixaDeTexto 19"/>
          <p:cNvSpPr/>
          <p:nvPr/>
        </p:nvSpPr>
        <p:spPr>
          <a:xfrm>
            <a:off x="0" y="3645000"/>
            <a:ext cx="9252000" cy="581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JBS.</a:t>
            </a:r>
            <a:r>
              <a:rPr b="0" lang="pt-BR" sz="3200" spc="-1" strike="noStrike">
                <a:solidFill>
                  <a:srgbClr val="ffffff"/>
                </a:solidFill>
                <a:latin typeface="Bookman Old Style"/>
              </a:rPr>
              <a:t> FAZ PARTE DO </a:t>
            </a: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SEU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aixaDeTexto 20"/>
          <p:cNvSpPr/>
          <p:nvPr/>
        </p:nvSpPr>
        <p:spPr>
          <a:xfrm>
            <a:off x="69840" y="19080"/>
            <a:ext cx="5797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Novos Modelos de Empresas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– Prof. Luciel Henrique de Oliv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 u="sng">
                <a:solidFill>
                  <a:srgbClr val="000000"/>
                </a:solidFill>
                <a:uFillTx/>
                <a:latin typeface="Arial"/>
              </a:rPr>
              <a:t>Grupo 5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Carla Federegh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Diego Cade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Luciano Buzo dos Sa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Paulo Hidal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Imagem 6" descr=""/>
          <p:cNvPicPr/>
          <p:nvPr/>
        </p:nvPicPr>
        <p:blipFill>
          <a:blip r:embed="rId3"/>
          <a:stretch/>
        </p:blipFill>
        <p:spPr>
          <a:xfrm>
            <a:off x="7524720" y="333360"/>
            <a:ext cx="1434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Estratég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34920" y="2267280"/>
            <a:ext cx="9036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imento Mais Saudável – exigir dos produtores e proporcionar uma alimentação com base orgânica na produção de car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ogística integrada - aperfeiçoar o processo e cadeia de distribuição de prod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timização das indústrias – otimização e modernização dos ativos produtivos adquiridos da Seara + pré-existentes JB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stão organizacional (G), Tecnológica (T) e Pessoas(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34920" y="1603080"/>
            <a:ext cx="903600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A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limento Mais Saudáve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 – criar uma linha especial de produtos mais saudáve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– prover estrutura para garantir a qualidade desses produ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 -  equipe qualificada para desenvolvimento e posicionamento dessa lin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Logística integ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 – departamento especializado na gestão de logística de distribuição e fr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– sistema de controle efici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 – incentivo para alta performanc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Otimização das indúst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 – reorganização dos setores com aproveitamento das sinergias para otimização dos 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– plataforma integrada do chão de fábrica a alta ges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 – adaptação das equipes à reorganização dos se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34920" y="2146320"/>
            <a:ext cx="90360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imento Mais Saudável – fortalecer a marca e atrair consumidores dispostos a pagar mais por produtos mais saudáveis.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ogística integrada &amp; Otimização das indústrias – redução de custos com consequente aumento da margem de lucro e maximização do valor da 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tângulo 21"/>
          <p:cNvSpPr/>
          <p:nvPr/>
        </p:nvSpPr>
        <p:spPr>
          <a:xfrm>
            <a:off x="0" y="0"/>
            <a:ext cx="9252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tretch/>
        </p:blipFill>
        <p:spPr>
          <a:xfrm>
            <a:off x="9360" y="1255680"/>
            <a:ext cx="9252000" cy="258120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9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Imagem 16" descr="jbs.jpg"/>
          <p:cNvPicPr/>
          <p:nvPr/>
        </p:nvPicPr>
        <p:blipFill>
          <a:blip r:embed="rId2"/>
          <a:stretch/>
        </p:blipFill>
        <p:spPr>
          <a:xfrm>
            <a:off x="36360" y="4149720"/>
            <a:ext cx="9215640" cy="2708280"/>
          </a:xfrm>
          <a:prstGeom prst="rect">
            <a:avLst/>
          </a:prstGeom>
          <a:ln w="0">
            <a:noFill/>
          </a:ln>
        </p:spPr>
      </p:pic>
      <p:sp>
        <p:nvSpPr>
          <p:cNvPr id="230" name="CaixaDeTexto 19"/>
          <p:cNvSpPr/>
          <p:nvPr/>
        </p:nvSpPr>
        <p:spPr>
          <a:xfrm>
            <a:off x="0" y="3645000"/>
            <a:ext cx="9252000" cy="581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JBS.</a:t>
            </a:r>
            <a:r>
              <a:rPr b="0" lang="pt-BR" sz="3200" spc="-1" strike="noStrike">
                <a:solidFill>
                  <a:srgbClr val="ffffff"/>
                </a:solidFill>
                <a:latin typeface="Bookman Old Style"/>
              </a:rPr>
              <a:t> FAZ PARTE DO </a:t>
            </a: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SEU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aixaDeTexto 20"/>
          <p:cNvSpPr/>
          <p:nvPr/>
        </p:nvSpPr>
        <p:spPr>
          <a:xfrm>
            <a:off x="179280" y="222120"/>
            <a:ext cx="57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Obrigad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Imagem 6" descr=""/>
          <p:cNvPicPr/>
          <p:nvPr/>
        </p:nvPicPr>
        <p:blipFill>
          <a:blip r:embed="rId3"/>
          <a:stretch/>
        </p:blipFill>
        <p:spPr>
          <a:xfrm>
            <a:off x="7524720" y="333360"/>
            <a:ext cx="1434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Indústria Brasileira de Al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tretch/>
        </p:blipFill>
        <p:spPr>
          <a:xfrm>
            <a:off x="7093080" y="765000"/>
            <a:ext cx="1788840" cy="630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8"/>
          <p:cNvSpPr/>
          <p:nvPr/>
        </p:nvSpPr>
        <p:spPr>
          <a:xfrm>
            <a:off x="108000" y="1951200"/>
            <a:ext cx="90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1º exportador mundial de alimentos processados ​​em volume e 5º em va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1º produtor e exportador mundial de suco de lar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1º produtor e exportador mundial de açúc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2º produtor e exportador mundial de car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2º produtor mundial de bombons e do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2º exportador mundial de café solúv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3º produtor mundial e 2 º exportador de óleo de so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3º produtor mundial e 1 º exportador de carne de av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4º produtor e exportador mundial de carne de por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4º produtor mundial de leite em p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5º produtor mundial de chocol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6º produtor mundial de leite flu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tângulo 18"/>
          <p:cNvSpPr/>
          <p:nvPr/>
        </p:nvSpPr>
        <p:spPr>
          <a:xfrm>
            <a:off x="6408720" y="6642000"/>
            <a:ext cx="272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ABIA A Indústria Brasileira de Alimento 201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569080" cy="4897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Inclinações do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ângulo 18"/>
          <p:cNvSpPr/>
          <p:nvPr/>
        </p:nvSpPr>
        <p:spPr>
          <a:xfrm>
            <a:off x="7962120" y="6642000"/>
            <a:ext cx="117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ABIA 50 a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640720" cy="4705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Inclinações do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ângulo 18"/>
          <p:cNvSpPr/>
          <p:nvPr/>
        </p:nvSpPr>
        <p:spPr>
          <a:xfrm>
            <a:off x="7962120" y="6642000"/>
            <a:ext cx="117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ABIA 50 a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893080" cy="165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8569080" cy="100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6480000" cy="1727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C:\Users\z000rcwk\Pictures\frangosul.bmp"/>
          <p:cNvPicPr/>
          <p:nvPr/>
        </p:nvPicPr>
        <p:blipFill>
          <a:blip r:embed="rId4"/>
          <a:stretch/>
        </p:blipFill>
        <p:spPr>
          <a:xfrm>
            <a:off x="6588000" y="4797360"/>
            <a:ext cx="863640" cy="36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C:\Users\z000rcwk\Pictures\logo_footer_marcas_penaBranca.png"/>
          <p:cNvPicPr/>
          <p:nvPr/>
        </p:nvPicPr>
        <p:blipFill>
          <a:blip r:embed="rId5"/>
          <a:stretch/>
        </p:blipFill>
        <p:spPr>
          <a:xfrm>
            <a:off x="6804000" y="5516640"/>
            <a:ext cx="619200" cy="312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C:\Users\z000rcwk\Pictures\logo_footer_marcas_doriana.png"/>
          <p:cNvPicPr/>
          <p:nvPr/>
        </p:nvPicPr>
        <p:blipFill>
          <a:blip r:embed="rId6"/>
          <a:stretch/>
        </p:blipFill>
        <p:spPr>
          <a:xfrm>
            <a:off x="7812000" y="5445000"/>
            <a:ext cx="825480" cy="36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C:\Users\z000rcwk\Pictures\logo-footer-marcas-kitfesta.png"/>
          <p:cNvPicPr/>
          <p:nvPr/>
        </p:nvPicPr>
        <p:blipFill>
          <a:blip r:embed="rId7"/>
          <a:stretch/>
        </p:blipFill>
        <p:spPr>
          <a:xfrm>
            <a:off x="7740720" y="4724280"/>
            <a:ext cx="863640" cy="50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C:\Users\z000rcwk\Pictures\JBS.jpg"/>
          <p:cNvPicPr/>
          <p:nvPr/>
        </p:nvPicPr>
        <p:blipFill>
          <a:blip r:embed="rId8"/>
          <a:stretch/>
        </p:blipFill>
        <p:spPr>
          <a:xfrm>
            <a:off x="1835280" y="3213000"/>
            <a:ext cx="857160" cy="533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http://www.jbs.com.br/getImage.aspx?src=_img//1-logo-jbs-latas.jpg"/>
          <p:cNvPicPr/>
          <p:nvPr/>
        </p:nvPicPr>
        <p:blipFill>
          <a:blip r:embed="rId9"/>
          <a:stretch/>
        </p:blipFill>
        <p:spPr>
          <a:xfrm>
            <a:off x="3348000" y="3213000"/>
            <a:ext cx="857160" cy="533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" descr="http://www.jbs.com.br/getImage.aspx?src=_img//1-logo-jbs-biodiesel.jpg"/>
          <p:cNvPicPr/>
          <p:nvPr/>
        </p:nvPicPr>
        <p:blipFill>
          <a:blip r:embed="rId10"/>
          <a:stretch/>
        </p:blipFill>
        <p:spPr>
          <a:xfrm>
            <a:off x="4643280" y="3213000"/>
            <a:ext cx="857520" cy="533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http://www.jbs.com.br/getImage.aspx?src=_img//1-logo-jbs-transportadora.jpg"/>
          <p:cNvPicPr/>
          <p:nvPr/>
        </p:nvPicPr>
        <p:blipFill>
          <a:blip r:embed="rId11"/>
          <a:stretch/>
        </p:blipFill>
        <p:spPr>
          <a:xfrm>
            <a:off x="6084720" y="3213000"/>
            <a:ext cx="857520" cy="533520"/>
          </a:xfrm>
          <a:prstGeom prst="rect">
            <a:avLst/>
          </a:prstGeom>
          <a:ln w="0">
            <a:noFill/>
          </a:ln>
        </p:spPr>
      </p:pic>
      <p:sp>
        <p:nvSpPr>
          <p:cNvPr id="124" name="Retângulo 18"/>
          <p:cNvSpPr/>
          <p:nvPr/>
        </p:nvSpPr>
        <p:spPr>
          <a:xfrm>
            <a:off x="7759440" y="6642000"/>
            <a:ext cx="137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Exame M&amp;M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Você conhece essas marc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10" descr=""/>
          <p:cNvPicPr/>
          <p:nvPr/>
        </p:nvPicPr>
        <p:blipFill>
          <a:blip r:embed="rId1"/>
          <a:srcRect l="816" t="0" r="0" b="0"/>
          <a:stretch/>
        </p:blipFill>
        <p:spPr>
          <a:xfrm>
            <a:off x="303120" y="1728720"/>
            <a:ext cx="8748720" cy="1008000"/>
          </a:xfrm>
          <a:prstGeom prst="rect">
            <a:avLst/>
          </a:prstGeom>
          <a:ln w="0">
            <a:noFill/>
          </a:ln>
        </p:spPr>
      </p:pic>
      <p:pic>
        <p:nvPicPr>
          <p:cNvPr id="127" name="Imagem 11" descr=""/>
          <p:cNvPicPr/>
          <p:nvPr/>
        </p:nvPicPr>
        <p:blipFill>
          <a:blip r:embed="rId2"/>
          <a:stretch/>
        </p:blipFill>
        <p:spPr>
          <a:xfrm>
            <a:off x="285840" y="2781360"/>
            <a:ext cx="7561080" cy="100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0" y="3703680"/>
            <a:ext cx="914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Líder mundial em processamento de carne bovin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, ovina e de aves, além de ter uma forte participação na produção de carne suín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Co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plataformas de produção e escritóri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no Brasil, Argentina, Itália, Austrália, EUA, Uruguai, Paraguai, México, China e Rúss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Seguem 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terceiro no mercado do agronegócio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e É 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maior exportadora do mundo de proteína anima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novos JBS Food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, que incorpora as operações da Seara, Frangosul e Doriana nasce com $Bn 6'0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eleva o grupo para $Bn 100'0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Quem é o Grupo JB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ângulo 18"/>
          <p:cNvSpPr/>
          <p:nvPr/>
        </p:nvSpPr>
        <p:spPr>
          <a:xfrm>
            <a:off x="7759440" y="6642000"/>
            <a:ext cx="137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Exame M&amp;M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rcRect l="819" t="0" r="0" b="4843"/>
          <a:stretch/>
        </p:blipFill>
        <p:spPr>
          <a:xfrm>
            <a:off x="289080" y="1628640"/>
            <a:ext cx="8785080" cy="4969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7230960" y="6639840"/>
            <a:ext cx="20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Roland Berger Consult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Cenário atu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0" t="0" r="0" b="5458"/>
          <a:stretch/>
        </p:blipFill>
        <p:spPr>
          <a:xfrm>
            <a:off x="287280" y="1628640"/>
            <a:ext cx="8748720" cy="4896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7230960" y="6639840"/>
            <a:ext cx="20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Roland Berger Consult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Cenário atu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Processos Essenciais &amp; G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2841480" y="1679400"/>
            <a:ext cx="4718160" cy="3641760"/>
          </a:xfrm>
          <a:prstGeom prst="rect">
            <a:avLst/>
          </a:prstGeom>
          <a:solidFill>
            <a:srgbClr val="99ccff"/>
          </a:solidFill>
          <a:ln w="50760">
            <a:solidFill>
              <a:srgbClr val="ff99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658880" y="3108240"/>
            <a:ext cx="13032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689120" y="1992240"/>
            <a:ext cx="1014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Melhor 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6560" y="4389480"/>
            <a:ext cx="7239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Pi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32280" y="5396040"/>
            <a:ext cx="1334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Pou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Relevan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26000" y="5396040"/>
            <a:ext cx="1317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Qualifica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do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002280" y="5396040"/>
            <a:ext cx="15350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Ganhado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de pedid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9"/>
          <p:cNvSpPr/>
          <p:nvPr/>
        </p:nvSpPr>
        <p:spPr>
          <a:xfrm>
            <a:off x="2889360" y="1697040"/>
            <a:ext cx="2108160" cy="113508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fill="none" w="21600" h="21630">
                <a:moveTo>
                  <a:pt x="21599" y="0"/>
                </a:moveTo>
                <a:cubicBezTo>
                  <a:pt x="21599" y="10"/>
                  <a:pt x="21600" y="20"/>
                  <a:pt x="21600" y="30"/>
                </a:cubicBezTo>
                <a:cubicBezTo>
                  <a:pt x="21600" y="11959"/>
                  <a:pt x="11929" y="21629"/>
                  <a:pt x="0" y="21630"/>
                </a:cubicBezTo>
              </a:path>
              <a:path stroke="0" w="21600" h="21630">
                <a:moveTo>
                  <a:pt x="21599" y="0"/>
                </a:moveTo>
                <a:cubicBezTo>
                  <a:pt x="21599" y="10"/>
                  <a:pt x="21600" y="20"/>
                  <a:pt x="21600" y="30"/>
                </a:cubicBezTo>
                <a:cubicBezTo>
                  <a:pt x="21600" y="11959"/>
                  <a:pt x="11929" y="21629"/>
                  <a:pt x="0" y="21630"/>
                </a:cubicBezTo>
                <a:lnTo>
                  <a:pt x="0" y="3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 flipV="1">
            <a:off x="2841480" y="2813040"/>
            <a:ext cx="4641840" cy="966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11"/>
          <p:cNvSpPr/>
          <p:nvPr/>
        </p:nvSpPr>
        <p:spPr>
          <a:xfrm rot="21060000">
            <a:off x="4103280" y="3855600"/>
            <a:ext cx="3567240" cy="1176480"/>
          </a:xfrm>
          <a:custGeom>
            <a:avLst/>
            <a:gdLst>
              <a:gd name="textAreaLeft" fmla="*/ 0 w 3567240"/>
              <a:gd name="textAreaRight" fmla="*/ 3567600 w 3567240"/>
              <a:gd name="textAreaTop" fmla="*/ 0 h 1176480"/>
              <a:gd name="textAreaBottom" fmla="*/ 1176840 h 1176480"/>
            </a:gdLst>
            <a:ahLst/>
            <a:rect l="textAreaLeft" t="textAreaTop" r="textAreaRight" b="textAreaBottom"/>
            <a:pathLst>
              <a:path fill="none" w="22699" h="21600">
                <a:moveTo>
                  <a:pt x="0" y="21571"/>
                </a:moveTo>
                <a:cubicBezTo>
                  <a:pt x="16" y="9652"/>
                  <a:pt x="9681" y="-1"/>
                  <a:pt x="21600" y="0"/>
                </a:cubicBezTo>
                <a:cubicBezTo>
                  <a:pt x="21966" y="0"/>
                  <a:pt x="22332" y="9"/>
                  <a:pt x="22699" y="27"/>
                </a:cubicBezTo>
              </a:path>
              <a:path stroke="0" w="22699" h="21600">
                <a:moveTo>
                  <a:pt x="0" y="21571"/>
                </a:moveTo>
                <a:cubicBezTo>
                  <a:pt x="16" y="9652"/>
                  <a:pt x="9681" y="-1"/>
                  <a:pt x="21600" y="0"/>
                </a:cubicBezTo>
                <a:cubicBezTo>
                  <a:pt x="21966" y="0"/>
                  <a:pt x="22332" y="9"/>
                  <a:pt x="22699" y="27"/>
                </a:cubicBezTo>
                <a:lnTo>
                  <a:pt x="21600" y="2160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3467160" y="1930320"/>
            <a:ext cx="13748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290520" y="1660680"/>
            <a:ext cx="1247760" cy="3606480"/>
          </a:xfrm>
          <a:custGeom>
            <a:avLst/>
            <a:gdLst>
              <a:gd name="textAreaLeft" fmla="*/ 45360 w 1247760"/>
              <a:gd name="textAreaRight" fmla="*/ 1202400 w 1247760"/>
              <a:gd name="textAreaTop" fmla="*/ 45360 h 3606480"/>
              <a:gd name="textAreaBottom" fmla="*/ 3561120 h 3606480"/>
            </a:gdLst>
            <a:ahLst/>
            <a:rect l="textAreaLeft" t="textAreaTop" r="textAreaRight" b="textAreaBottom"/>
            <a:pathLst>
              <a:path w="21600" h="62420">
                <a:moveTo>
                  <a:pt x="2699" y="0"/>
                </a:moveTo>
                <a:arcTo wR="2699" hR="2699" stAng="16200000" swAng="-5400000"/>
                <a:lnTo>
                  <a:pt x="0" y="59721"/>
                </a:lnTo>
                <a:arcTo wR="2699" hR="2699" stAng="10800000" swAng="-5400000"/>
                <a:lnTo>
                  <a:pt x="18901" y="62420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4"/>
          <p:cNvSpPr/>
          <p:nvPr/>
        </p:nvSpPr>
        <p:spPr>
          <a:xfrm rot="16200000">
            <a:off x="-717120" y="3011040"/>
            <a:ext cx="340200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900" spc="-1" strike="noStrike">
                <a:solidFill>
                  <a:srgbClr val="949eaa"/>
                </a:solidFill>
                <a:latin typeface="Arial"/>
                <a:ea typeface="SimSun"/>
              </a:rPr>
              <a:t>DESEMPEN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300" spc="-1" strike="noStrike">
                <a:solidFill>
                  <a:srgbClr val="949eaa"/>
                </a:solidFill>
                <a:latin typeface="Arial"/>
                <a:ea typeface="SimSun"/>
              </a:rPr>
              <a:t> </a:t>
            </a:r>
            <a:r>
              <a:rPr b="1" lang="pt-BR" sz="1300" spc="-1" strike="noStrike">
                <a:solidFill>
                  <a:srgbClr val="949eaa"/>
                </a:solidFill>
                <a:latin typeface="Arial"/>
                <a:ea typeface="SimSun"/>
              </a:rPr>
              <a:t>comparado com 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900" spc="-1" strike="noStrike">
                <a:solidFill>
                  <a:srgbClr val="949eaa"/>
                </a:solidFill>
                <a:latin typeface="Arial"/>
                <a:ea typeface="SimSun"/>
              </a:rPr>
              <a:t>CONCORRÊ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5"/>
          <p:cNvSpPr/>
          <p:nvPr/>
        </p:nvSpPr>
        <p:spPr>
          <a:xfrm flipV="1">
            <a:off x="1081080" y="1628640"/>
            <a:ext cx="0" cy="91944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>
            <a:off x="1081080" y="4286160"/>
            <a:ext cx="0" cy="81756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1689120" y="3151080"/>
            <a:ext cx="1014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Mesmo qu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2916360" y="5979960"/>
            <a:ext cx="27860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3211560" y="5865840"/>
            <a:ext cx="4167000" cy="882720"/>
          </a:xfrm>
          <a:prstGeom prst="roundRect">
            <a:avLst>
              <a:gd name="adj" fmla="val 12495"/>
            </a:avLst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3625920" y="5943600"/>
            <a:ext cx="334476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IMPORTÂ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para 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CLI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 flipH="1">
            <a:off x="3238200" y="6337440"/>
            <a:ext cx="1571400" cy="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5823000" y="6337440"/>
            <a:ext cx="1469880" cy="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3249720" y="6438960"/>
            <a:ext cx="7290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baix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6796080" y="6438960"/>
            <a:ext cx="5475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al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 rot="16200000">
            <a:off x="637920" y="1646280"/>
            <a:ext cx="6303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b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 rot="16200000">
            <a:off x="709920" y="4710960"/>
            <a:ext cx="6192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ma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>
            <a:off x="2197080" y="1733400"/>
            <a:ext cx="0" cy="276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8"/>
          <p:cNvSpPr/>
          <p:nvPr/>
        </p:nvSpPr>
        <p:spPr>
          <a:xfrm>
            <a:off x="2197080" y="2890800"/>
            <a:ext cx="0" cy="277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9"/>
          <p:cNvSpPr/>
          <p:nvPr/>
        </p:nvSpPr>
        <p:spPr>
          <a:xfrm>
            <a:off x="2197080" y="3976560"/>
            <a:ext cx="0" cy="42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0"/>
          <p:cNvSpPr/>
          <p:nvPr/>
        </p:nvSpPr>
        <p:spPr>
          <a:xfrm flipV="1">
            <a:off x="2197080" y="2515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1"/>
          <p:cNvSpPr/>
          <p:nvPr/>
        </p:nvSpPr>
        <p:spPr>
          <a:xfrm flipV="1">
            <a:off x="2197080" y="3675240"/>
            <a:ext cx="0" cy="37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2"/>
          <p:cNvSpPr/>
          <p:nvPr/>
        </p:nvSpPr>
        <p:spPr>
          <a:xfrm flipV="1">
            <a:off x="2197080" y="490500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3"/>
          <p:cNvSpPr/>
          <p:nvPr/>
        </p:nvSpPr>
        <p:spPr>
          <a:xfrm>
            <a:off x="2895480" y="563580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4"/>
          <p:cNvSpPr/>
          <p:nvPr/>
        </p:nvSpPr>
        <p:spPr>
          <a:xfrm>
            <a:off x="4560840" y="5635800"/>
            <a:ext cx="349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5"/>
          <p:cNvSpPr/>
          <p:nvPr/>
        </p:nvSpPr>
        <p:spPr>
          <a:xfrm>
            <a:off x="5935680" y="5635800"/>
            <a:ext cx="349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6"/>
          <p:cNvSpPr/>
          <p:nvPr/>
        </p:nvSpPr>
        <p:spPr>
          <a:xfrm flipH="1">
            <a:off x="4113000" y="5635800"/>
            <a:ext cx="447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7"/>
          <p:cNvSpPr/>
          <p:nvPr/>
        </p:nvSpPr>
        <p:spPr>
          <a:xfrm flipH="1">
            <a:off x="5560920" y="5635800"/>
            <a:ext cx="447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8"/>
          <p:cNvSpPr/>
          <p:nvPr/>
        </p:nvSpPr>
        <p:spPr>
          <a:xfrm flipH="1">
            <a:off x="7081560" y="5635800"/>
            <a:ext cx="446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9"/>
          <p:cNvSpPr/>
          <p:nvPr/>
        </p:nvSpPr>
        <p:spPr>
          <a:xfrm>
            <a:off x="316548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0"/>
          <p:cNvSpPr/>
          <p:nvPr/>
        </p:nvSpPr>
        <p:spPr>
          <a:xfrm>
            <a:off x="36990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423216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2"/>
          <p:cNvSpPr/>
          <p:nvPr/>
        </p:nvSpPr>
        <p:spPr>
          <a:xfrm>
            <a:off x="476568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3"/>
          <p:cNvSpPr/>
          <p:nvPr/>
        </p:nvSpPr>
        <p:spPr>
          <a:xfrm>
            <a:off x="52992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583236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5"/>
          <p:cNvSpPr/>
          <p:nvPr/>
        </p:nvSpPr>
        <p:spPr>
          <a:xfrm>
            <a:off x="636588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6"/>
          <p:cNvSpPr/>
          <p:nvPr/>
        </p:nvSpPr>
        <p:spPr>
          <a:xfrm>
            <a:off x="68994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7"/>
          <p:cNvSpPr/>
          <p:nvPr/>
        </p:nvSpPr>
        <p:spPr>
          <a:xfrm>
            <a:off x="73566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8"/>
          <p:cNvSpPr/>
          <p:nvPr/>
        </p:nvSpPr>
        <p:spPr>
          <a:xfrm>
            <a:off x="2867040" y="19242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9"/>
          <p:cNvSpPr/>
          <p:nvPr/>
        </p:nvSpPr>
        <p:spPr>
          <a:xfrm>
            <a:off x="2867040" y="23814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0"/>
          <p:cNvSpPr/>
          <p:nvPr/>
        </p:nvSpPr>
        <p:spPr>
          <a:xfrm>
            <a:off x="2867040" y="28386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1"/>
          <p:cNvSpPr/>
          <p:nvPr/>
        </p:nvSpPr>
        <p:spPr>
          <a:xfrm>
            <a:off x="2867040" y="321948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2"/>
          <p:cNvSpPr/>
          <p:nvPr/>
        </p:nvSpPr>
        <p:spPr>
          <a:xfrm>
            <a:off x="2867040" y="360036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3"/>
          <p:cNvSpPr/>
          <p:nvPr/>
        </p:nvSpPr>
        <p:spPr>
          <a:xfrm>
            <a:off x="2867040" y="39816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4"/>
          <p:cNvSpPr/>
          <p:nvPr/>
        </p:nvSpPr>
        <p:spPr>
          <a:xfrm>
            <a:off x="2867040" y="51246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5"/>
          <p:cNvSpPr/>
          <p:nvPr/>
        </p:nvSpPr>
        <p:spPr>
          <a:xfrm>
            <a:off x="2867040" y="436248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6"/>
          <p:cNvSpPr/>
          <p:nvPr/>
        </p:nvSpPr>
        <p:spPr>
          <a:xfrm>
            <a:off x="2867040" y="474336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7"/>
          <p:cNvSpPr/>
          <p:nvPr/>
        </p:nvSpPr>
        <p:spPr>
          <a:xfrm>
            <a:off x="4205880" y="3573360"/>
            <a:ext cx="10209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PREÇO/CUS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8"/>
          <p:cNvSpPr/>
          <p:nvPr/>
        </p:nvSpPr>
        <p:spPr>
          <a:xfrm>
            <a:off x="5365440" y="2060640"/>
            <a:ext cx="17402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QUALIDADE DO PRODU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9"/>
          <p:cNvSpPr/>
          <p:nvPr/>
        </p:nvSpPr>
        <p:spPr>
          <a:xfrm>
            <a:off x="5420520" y="3328920"/>
            <a:ext cx="183492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ALIMENTO MAIS SAUDÁ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0"/>
          <p:cNvSpPr/>
          <p:nvPr/>
        </p:nvSpPr>
        <p:spPr>
          <a:xfrm>
            <a:off x="5876280" y="4094280"/>
            <a:ext cx="15710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LOGISTICA INTEGR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4"/>
          <p:cNvSpPr/>
          <p:nvPr/>
        </p:nvSpPr>
        <p:spPr>
          <a:xfrm>
            <a:off x="5232960" y="4437000"/>
            <a:ext cx="20055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OTIMIZAÇÃO DAS INDÚST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5"/>
          <p:cNvSpPr/>
          <p:nvPr/>
        </p:nvSpPr>
        <p:spPr>
          <a:xfrm>
            <a:off x="3373560" y="4022640"/>
            <a:ext cx="183492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FLEXIBILIDADE DE VOL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8"/>
          <p:cNvSpPr/>
          <p:nvPr/>
        </p:nvSpPr>
        <p:spPr>
          <a:xfrm>
            <a:off x="5238720" y="3525840"/>
            <a:ext cx="13968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0"/>
          <p:cNvSpPr/>
          <p:nvPr/>
        </p:nvSpPr>
        <p:spPr>
          <a:xfrm>
            <a:off x="5219640" y="4653000"/>
            <a:ext cx="139680" cy="1396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71"/>
          <p:cNvSpPr/>
          <p:nvPr/>
        </p:nvSpPr>
        <p:spPr>
          <a:xfrm>
            <a:off x="6829560" y="4292640"/>
            <a:ext cx="139680" cy="1396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2"/>
          <p:cNvSpPr/>
          <p:nvPr/>
        </p:nvSpPr>
        <p:spPr>
          <a:xfrm>
            <a:off x="6296040" y="1849320"/>
            <a:ext cx="139680" cy="1396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73"/>
          <p:cNvSpPr/>
          <p:nvPr/>
        </p:nvSpPr>
        <p:spPr>
          <a:xfrm>
            <a:off x="5237280" y="2322360"/>
            <a:ext cx="139680" cy="1396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5"/>
          <p:cNvSpPr/>
          <p:nvPr/>
        </p:nvSpPr>
        <p:spPr>
          <a:xfrm>
            <a:off x="2971800" y="4973760"/>
            <a:ext cx="47656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spAutoFit/>
          </a:bodyPr>
          <a:p>
            <a:pPr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pt-BR" sz="2300" spc="-1" strike="noStrike">
                <a:solidFill>
                  <a:srgbClr val="081d58"/>
                </a:solidFill>
                <a:latin typeface="Arial"/>
                <a:ea typeface="SimSun"/>
              </a:rPr>
              <a:t> </a:t>
            </a:r>
            <a:r>
              <a:rPr b="1" lang="pt-BR" sz="2300" spc="-1" strike="noStrike">
                <a:solidFill>
                  <a:srgbClr val="081d58"/>
                </a:solidFill>
                <a:latin typeface="Arial"/>
                <a:ea typeface="SimSun"/>
              </a:rPr>
              <a:t>9     8     7    6     5    4     3     2   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6"/>
          <p:cNvSpPr/>
          <p:nvPr/>
        </p:nvSpPr>
        <p:spPr>
          <a:xfrm>
            <a:off x="2881440" y="1652760"/>
            <a:ext cx="341280" cy="35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69"/>
          <p:cNvSpPr/>
          <p:nvPr/>
        </p:nvSpPr>
        <p:spPr>
          <a:xfrm>
            <a:off x="6303960" y="3535200"/>
            <a:ext cx="139680" cy="1400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8"/>
          <p:cNvSpPr/>
          <p:nvPr/>
        </p:nvSpPr>
        <p:spPr>
          <a:xfrm>
            <a:off x="4513320" y="2492280"/>
            <a:ext cx="197640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POSICIONAMENTO DE MA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69"/>
          <p:cNvSpPr/>
          <p:nvPr/>
        </p:nvSpPr>
        <p:spPr>
          <a:xfrm>
            <a:off x="5238720" y="3909960"/>
            <a:ext cx="13968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73"/>
          <p:cNvSpPr/>
          <p:nvPr/>
        </p:nvSpPr>
        <p:spPr>
          <a:xfrm>
            <a:off x="5219640" y="2781360"/>
            <a:ext cx="139680" cy="1396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8"/>
          <p:cNvSpPr/>
          <p:nvPr/>
        </p:nvSpPr>
        <p:spPr>
          <a:xfrm>
            <a:off x="3862800" y="2924280"/>
            <a:ext cx="18561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DISPONIBILIDADE DE PR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7:02:49Z</dcterms:created>
  <dc:creator>z00304um</dc:creator>
  <dc:description/>
  <dc:language>en-US</dc:language>
  <cp:lastModifiedBy>z001pmsa</cp:lastModifiedBy>
  <cp:lastPrinted>2005-10-17T08:52:43Z</cp:lastPrinted>
  <dcterms:modified xsi:type="dcterms:W3CDTF">2014-04-07T02:15:22Z</dcterms:modified>
  <cp:revision>187</cp:revision>
  <dc:subject/>
  <dc:title>Decision Presentation Basic PowerPoint Templ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30AF5BF6D57784AA944F7BC3B3A0539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