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58BB-68A1-4FB5-A05E-590EEB82B80E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99F3-2F79-4189-96F1-93F4E6CE40A7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4EAF-FB8A-400B-8FDD-EBE870C04880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DE2D-482C-47C3-81E5-6FAEC861D623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599D-104C-422F-AD3C-D1F1B9E0DEF2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DBA8-6B6E-44B4-9EA5-0E64B0B390DE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FA10-9F77-4EC2-98FA-B12732ABB3C4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7F38-7707-4143-B54E-0A99419CC6EC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5994-5457-42D3-8435-7F5D613B31E1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28BD-84DE-4495-A312-3B691F2BBDE2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7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92EC38-95CE-4A57-B605-16CCDC37CE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8"/>
          <p:cNvSpPr/>
          <p:nvPr/>
        </p:nvSpPr>
        <p:spPr>
          <a:xfrm>
            <a:off x="1889280" y="6488280"/>
            <a:ext cx="965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ctober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5"/>
          <p:cNvSpPr/>
          <p:nvPr/>
        </p:nvSpPr>
        <p:spPr>
          <a:xfrm>
            <a:off x="6121440" y="6488280"/>
            <a:ext cx="2635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uster Brazil / F&amp;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26"/>
          <p:cNvSpPr/>
          <p:nvPr/>
        </p:nvSpPr>
        <p:spPr>
          <a:xfrm>
            <a:off x="3154320" y="6489720"/>
            <a:ext cx="249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ntone, Cl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68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http://www.trabalhismoemdebate.com.br/wp-content/uploads/2012/01/cooperativa.jpg"/>
          <p:cNvPicPr/>
          <p:nvPr/>
        </p:nvPicPr>
        <p:blipFill>
          <a:blip r:embed="rId2"/>
          <a:stretch/>
        </p:blipFill>
        <p:spPr>
          <a:xfrm>
            <a:off x="4643280" y="6502320"/>
            <a:ext cx="289080" cy="2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7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20"/>
          <p:cNvSpPr/>
          <p:nvPr/>
        </p:nvSpPr>
        <p:spPr>
          <a:xfrm>
            <a:off x="69840" y="19080"/>
            <a:ext cx="5797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ovos Modelos de Empresas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– Prof. Luciel Henrique de Oliv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 u="sng">
                <a:solidFill>
                  <a:srgbClr val="000000"/>
                </a:solidFill>
                <a:uFillTx/>
                <a:latin typeface="Arial"/>
              </a:rPr>
              <a:t>Grupo 5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Carla Federegh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Diego Cad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Luciano Buzo dos Sa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Paulo Hidal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Estratég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4920" y="2267280"/>
            <a:ext cx="9036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exigir dos produtores e proporcionar uma alimentação com base orgânica na produção de car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- aperfeiçoar o processo e cadeia de distribuição de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timização das indústrias – otimização e modernização dos ativos produtivos adquiridos da Seara + pré-existentes JB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stão organizacional (G), Tecnológica (T) e Pessoas(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34920" y="1603080"/>
            <a:ext cx="9036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imento Mais Saudáv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criar uma linha especial de produtos mais saudáv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rover estrutura para garantir a qualidade desses prod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-  equipe qualificada para desenvolvimento e posicionamento dessa lin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ogística integ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departamento especializado na gestão de logística de distribuição e fr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sistema de controle efici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incentivo para alta performa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Otimização das indúst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reorganização dos setores com aproveitamento das sinergias para otimização dos 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lataforma integrada do chão de fábrica a alta 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adaptação das equipes à reorganização d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34920" y="2146320"/>
            <a:ext cx="90360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fortalecer a marca e atrair consumidores dispostos a pagar mais por produtos mais saudáveis.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&amp; Otimização das indústrias – redução de custos com consequente aumento da margem de lucro e maximização do valor da 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230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ixaDeTexto 20"/>
          <p:cNvSpPr/>
          <p:nvPr/>
        </p:nvSpPr>
        <p:spPr>
          <a:xfrm>
            <a:off x="179280" y="222120"/>
            <a:ext cx="57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dústria Brasileira de Al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8"/>
          <p:cNvSpPr/>
          <p:nvPr/>
        </p:nvSpPr>
        <p:spPr>
          <a:xfrm>
            <a:off x="108000" y="1951200"/>
            <a:ext cx="90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exportador mundial de alimentos processados ​​em volume e 5º em va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suco de lar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açúc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e exportador mundial de c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mundial de bombons e do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exportador mundial de café solú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2 º exportador de óleo de so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1 º exportador de carne de av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e exportador mundial de carne de por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mundial de leite em p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5º produtor mundial de chocol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6º produtor mundial de leite flu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18"/>
          <p:cNvSpPr/>
          <p:nvPr/>
        </p:nvSpPr>
        <p:spPr>
          <a:xfrm>
            <a:off x="6408720" y="6642000"/>
            <a:ext cx="272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A Indústria Brasileira de Alimento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897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705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165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856908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6480000" cy="172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Users\z000rcwk\Pictures\frangosul.bmp"/>
          <p:cNvPicPr/>
          <p:nvPr/>
        </p:nvPicPr>
        <p:blipFill>
          <a:blip r:embed="rId4"/>
          <a:stretch/>
        </p:blipFill>
        <p:spPr>
          <a:xfrm>
            <a:off x="6588000" y="4797360"/>
            <a:ext cx="86364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:\Users\z000rcwk\Pictures\logo_footer_marcas_penaBranca.png"/>
          <p:cNvPicPr/>
          <p:nvPr/>
        </p:nvPicPr>
        <p:blipFill>
          <a:blip r:embed="rId5"/>
          <a:stretch/>
        </p:blipFill>
        <p:spPr>
          <a:xfrm>
            <a:off x="6804000" y="5516640"/>
            <a:ext cx="619200" cy="31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C:\Users\z000rcwk\Pictures\logo_footer_marcas_doriana.png"/>
          <p:cNvPicPr/>
          <p:nvPr/>
        </p:nvPicPr>
        <p:blipFill>
          <a:blip r:embed="rId6"/>
          <a:stretch/>
        </p:blipFill>
        <p:spPr>
          <a:xfrm>
            <a:off x="7812000" y="5445000"/>
            <a:ext cx="82548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C:\Users\z000rcwk\Pictures\logo-footer-marcas-kitfesta.png"/>
          <p:cNvPicPr/>
          <p:nvPr/>
        </p:nvPicPr>
        <p:blipFill>
          <a:blip r:embed="rId7"/>
          <a:stretch/>
        </p:blipFill>
        <p:spPr>
          <a:xfrm>
            <a:off x="7740720" y="4724280"/>
            <a:ext cx="863640" cy="50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C:\Users\z000rcwk\Pictures\JBS.jpg"/>
          <p:cNvPicPr/>
          <p:nvPr/>
        </p:nvPicPr>
        <p:blipFill>
          <a:blip r:embed="rId8"/>
          <a:stretch/>
        </p:blipFill>
        <p:spPr>
          <a:xfrm>
            <a:off x="183528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://www.jbs.com.br/getImage.aspx?src=_img//1-logo-jbs-latas.jpg"/>
          <p:cNvPicPr/>
          <p:nvPr/>
        </p:nvPicPr>
        <p:blipFill>
          <a:blip r:embed="rId9"/>
          <a:stretch/>
        </p:blipFill>
        <p:spPr>
          <a:xfrm>
            <a:off x="334800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http://www.jbs.com.br/getImage.aspx?src=_img//1-logo-jbs-biodiesel.jpg"/>
          <p:cNvPicPr/>
          <p:nvPr/>
        </p:nvPicPr>
        <p:blipFill>
          <a:blip r:embed="rId10"/>
          <a:stretch/>
        </p:blipFill>
        <p:spPr>
          <a:xfrm>
            <a:off x="4643280" y="3213000"/>
            <a:ext cx="85752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http://www.jbs.com.br/getImage.aspx?src=_img//1-logo-jbs-transportadora.jpg"/>
          <p:cNvPicPr/>
          <p:nvPr/>
        </p:nvPicPr>
        <p:blipFill>
          <a:blip r:embed="rId11"/>
          <a:stretch/>
        </p:blipFill>
        <p:spPr>
          <a:xfrm>
            <a:off x="6084720" y="3213000"/>
            <a:ext cx="857520" cy="533520"/>
          </a:xfrm>
          <a:prstGeom prst="rect">
            <a:avLst/>
          </a:prstGeom>
          <a:ln w="0">
            <a:noFill/>
          </a:ln>
        </p:spPr>
      </p:pic>
      <p:sp>
        <p:nvSpPr>
          <p:cNvPr id="124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Você conhece essas marc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10" descr=""/>
          <p:cNvPicPr/>
          <p:nvPr/>
        </p:nvPicPr>
        <p:blipFill>
          <a:blip r:embed="rId1"/>
          <a:srcRect l="816" t="0" r="0" b="0"/>
          <a:stretch/>
        </p:blipFill>
        <p:spPr>
          <a:xfrm>
            <a:off x="303120" y="1728720"/>
            <a:ext cx="874872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11" descr=""/>
          <p:cNvPicPr/>
          <p:nvPr/>
        </p:nvPicPr>
        <p:blipFill>
          <a:blip r:embed="rId2"/>
          <a:stretch/>
        </p:blipFill>
        <p:spPr>
          <a:xfrm>
            <a:off x="285840" y="2781360"/>
            <a:ext cx="7561080" cy="100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0" y="370368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Líder mundial em processamento de carne bovin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ovina e de aves, além de ter uma forte participação na produção de carne suí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Co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plataformas de produção e escritóri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no Brasil, Argentina, Itália, Austrália, EUA, Uruguai, Paraguai, México, China e Rúss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Seguem 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terceiro no mercado do agronegóci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 É 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maior exportadora do mundo de proteína anima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novos JBS Food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que incorpora as operações da Seara, Frangosul e Doriana nasce com $Bn 6'0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leva o grupo para $Bn 100'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Quem é o Grupo JB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819" t="0" r="0" b="4843"/>
          <a:stretch/>
        </p:blipFill>
        <p:spPr>
          <a:xfrm>
            <a:off x="289080" y="1628640"/>
            <a:ext cx="878508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0" t="0" r="0" b="5458"/>
          <a:stretch/>
        </p:blipFill>
        <p:spPr>
          <a:xfrm>
            <a:off x="287280" y="1628640"/>
            <a:ext cx="8748720" cy="4896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Processos Essenciais &amp; G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841480" y="1679400"/>
            <a:ext cx="4718160" cy="3641760"/>
          </a:xfrm>
          <a:prstGeom prst="rect">
            <a:avLst/>
          </a:prstGeom>
          <a:solidFill>
            <a:srgbClr val="99ccff"/>
          </a:solidFill>
          <a:ln w="50760">
            <a:solidFill>
              <a:srgbClr val="ff99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658880" y="3108240"/>
            <a:ext cx="1303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689120" y="199224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lhor 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6560" y="4389480"/>
            <a:ext cx="7239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i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32280" y="5396040"/>
            <a:ext cx="1334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Pou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Releva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26000" y="5396040"/>
            <a:ext cx="1317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Qualifica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02280" y="5396040"/>
            <a:ext cx="1535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Ganha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e pedi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9"/>
          <p:cNvSpPr/>
          <p:nvPr/>
        </p:nvSpPr>
        <p:spPr>
          <a:xfrm>
            <a:off x="2889360" y="1697040"/>
            <a:ext cx="2108160" cy="113508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fill="none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</a:path>
              <a:path stroke="0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  <a:lnTo>
                  <a:pt x="0" y="3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 flipV="1">
            <a:off x="2841480" y="2813040"/>
            <a:ext cx="4641840" cy="96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11"/>
          <p:cNvSpPr/>
          <p:nvPr/>
        </p:nvSpPr>
        <p:spPr>
          <a:xfrm rot="21060000">
            <a:off x="4103280" y="3855600"/>
            <a:ext cx="3567240" cy="1176480"/>
          </a:xfrm>
          <a:custGeom>
            <a:avLst/>
            <a:gdLst>
              <a:gd name="textAreaLeft" fmla="*/ 0 w 3567240"/>
              <a:gd name="textAreaRight" fmla="*/ 3567600 w 3567240"/>
              <a:gd name="textAreaTop" fmla="*/ 0 h 1176480"/>
              <a:gd name="textAreaBottom" fmla="*/ 1176840 h 1176480"/>
            </a:gdLst>
            <a:ahLst/>
            <a:rect l="textAreaLeft" t="textAreaTop" r="textAreaRight" b="textAreaBottom"/>
            <a:pathLst>
              <a:path fill="none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</a:path>
              <a:path stroke="0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467160" y="1930320"/>
            <a:ext cx="1374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290520" y="1660680"/>
            <a:ext cx="1247760" cy="3606480"/>
          </a:xfrm>
          <a:custGeom>
            <a:avLst/>
            <a:gdLst>
              <a:gd name="textAreaLeft" fmla="*/ 45360 w 1247760"/>
              <a:gd name="textAreaRight" fmla="*/ 1202400 w 1247760"/>
              <a:gd name="textAreaTop" fmla="*/ 45360 h 3606480"/>
              <a:gd name="textAreaBottom" fmla="*/ 3561120 h 3606480"/>
            </a:gdLst>
            <a:ahLst/>
            <a:rect l="textAreaLeft" t="textAreaTop" r="textAreaRight" b="textAreaBottom"/>
            <a:pathLst>
              <a:path w="21600" h="62420">
                <a:moveTo>
                  <a:pt x="2699" y="0"/>
                </a:moveTo>
                <a:arcTo wR="2699" hR="2699" stAng="16200000" swAng="-5400000"/>
                <a:lnTo>
                  <a:pt x="0" y="59721"/>
                </a:lnTo>
                <a:arcTo wR="2699" hR="2699" stAng="10800000" swAng="-5400000"/>
                <a:lnTo>
                  <a:pt x="18901" y="6242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 rot="16200000">
            <a:off x="-717120" y="3011040"/>
            <a:ext cx="340200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DESEMPEN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 </a:t>
            </a: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comparado com 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CONCOR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 flipV="1">
            <a:off x="1081080" y="1628640"/>
            <a:ext cx="0" cy="91944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1081080" y="4286160"/>
            <a:ext cx="0" cy="81756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1689120" y="315108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smo qu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2916360" y="5979960"/>
            <a:ext cx="2786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3211560" y="5865840"/>
            <a:ext cx="4167000" cy="882720"/>
          </a:xfrm>
          <a:prstGeom prst="roundRect">
            <a:avLst>
              <a:gd name="adj" fmla="val 12495"/>
            </a:avLst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3625920" y="5943600"/>
            <a:ext cx="33447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IMPORTÂ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ara 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H="1">
            <a:off x="3238200" y="6337440"/>
            <a:ext cx="157140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5823000" y="6337440"/>
            <a:ext cx="146988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3249720" y="6438960"/>
            <a:ext cx="729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6796080" y="6438960"/>
            <a:ext cx="5475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al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 rot="16200000">
            <a:off x="637920" y="1646280"/>
            <a:ext cx="6303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 rot="16200000">
            <a:off x="709920" y="4710960"/>
            <a:ext cx="6192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a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2197080" y="1733400"/>
            <a:ext cx="0" cy="27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2197080" y="289080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2197080" y="397656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197080" y="2515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1"/>
          <p:cNvSpPr/>
          <p:nvPr/>
        </p:nvSpPr>
        <p:spPr>
          <a:xfrm flipV="1">
            <a:off x="2197080" y="3675240"/>
            <a:ext cx="0" cy="37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2"/>
          <p:cNvSpPr/>
          <p:nvPr/>
        </p:nvSpPr>
        <p:spPr>
          <a:xfrm flipV="1">
            <a:off x="2197080" y="490500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2895480" y="563580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456084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5"/>
          <p:cNvSpPr/>
          <p:nvPr/>
        </p:nvSpPr>
        <p:spPr>
          <a:xfrm>
            <a:off x="593568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6"/>
          <p:cNvSpPr/>
          <p:nvPr/>
        </p:nvSpPr>
        <p:spPr>
          <a:xfrm flipH="1">
            <a:off x="4113000" y="563580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7"/>
          <p:cNvSpPr/>
          <p:nvPr/>
        </p:nvSpPr>
        <p:spPr>
          <a:xfrm flipH="1">
            <a:off x="5560920" y="5635800"/>
            <a:ext cx="44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8"/>
          <p:cNvSpPr/>
          <p:nvPr/>
        </p:nvSpPr>
        <p:spPr>
          <a:xfrm flipH="1">
            <a:off x="7081560" y="5635800"/>
            <a:ext cx="4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9"/>
          <p:cNvSpPr/>
          <p:nvPr/>
        </p:nvSpPr>
        <p:spPr>
          <a:xfrm>
            <a:off x="31654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"/>
          <p:cNvSpPr/>
          <p:nvPr/>
        </p:nvSpPr>
        <p:spPr>
          <a:xfrm>
            <a:off x="36990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42321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47656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52992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58323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3658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68994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7"/>
          <p:cNvSpPr/>
          <p:nvPr/>
        </p:nvSpPr>
        <p:spPr>
          <a:xfrm>
            <a:off x="73566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8"/>
          <p:cNvSpPr/>
          <p:nvPr/>
        </p:nvSpPr>
        <p:spPr>
          <a:xfrm>
            <a:off x="2867040" y="19242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9"/>
          <p:cNvSpPr/>
          <p:nvPr/>
        </p:nvSpPr>
        <p:spPr>
          <a:xfrm>
            <a:off x="2867040" y="23814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0"/>
          <p:cNvSpPr/>
          <p:nvPr/>
        </p:nvSpPr>
        <p:spPr>
          <a:xfrm>
            <a:off x="2867040" y="2838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1"/>
          <p:cNvSpPr/>
          <p:nvPr/>
        </p:nvSpPr>
        <p:spPr>
          <a:xfrm>
            <a:off x="2867040" y="3219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867040" y="3600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2867040" y="3981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2867040" y="5124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2867040" y="4362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2867040" y="4743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4205880" y="3573360"/>
            <a:ext cx="10209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REÇO/CU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8"/>
          <p:cNvSpPr/>
          <p:nvPr/>
        </p:nvSpPr>
        <p:spPr>
          <a:xfrm>
            <a:off x="5365440" y="2060640"/>
            <a:ext cx="17402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QUALIDADE DO PROD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5420520" y="332892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ALIMENTO MAIS SAUDÁ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0"/>
          <p:cNvSpPr/>
          <p:nvPr/>
        </p:nvSpPr>
        <p:spPr>
          <a:xfrm>
            <a:off x="5876280" y="4094280"/>
            <a:ext cx="15710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LOGISTICA INTEGR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4"/>
          <p:cNvSpPr/>
          <p:nvPr/>
        </p:nvSpPr>
        <p:spPr>
          <a:xfrm>
            <a:off x="5232960" y="4437000"/>
            <a:ext cx="20055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OTIMIZAÇÃO DAS INDÚST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5"/>
          <p:cNvSpPr/>
          <p:nvPr/>
        </p:nvSpPr>
        <p:spPr>
          <a:xfrm>
            <a:off x="3373560" y="402264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FLEXIBILIDADE DE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8"/>
          <p:cNvSpPr/>
          <p:nvPr/>
        </p:nvSpPr>
        <p:spPr>
          <a:xfrm>
            <a:off x="5238720" y="352584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0"/>
          <p:cNvSpPr/>
          <p:nvPr/>
        </p:nvSpPr>
        <p:spPr>
          <a:xfrm>
            <a:off x="5219640" y="465300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1"/>
          <p:cNvSpPr/>
          <p:nvPr/>
        </p:nvSpPr>
        <p:spPr>
          <a:xfrm>
            <a:off x="6829560" y="429264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2"/>
          <p:cNvSpPr/>
          <p:nvPr/>
        </p:nvSpPr>
        <p:spPr>
          <a:xfrm>
            <a:off x="6296040" y="184932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73"/>
          <p:cNvSpPr/>
          <p:nvPr/>
        </p:nvSpPr>
        <p:spPr>
          <a:xfrm>
            <a:off x="5237280" y="2322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5"/>
          <p:cNvSpPr/>
          <p:nvPr/>
        </p:nvSpPr>
        <p:spPr>
          <a:xfrm>
            <a:off x="2971800" y="4973760"/>
            <a:ext cx="4765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 </a:t>
            </a: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9     8     7    6     5    4     3     2   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6"/>
          <p:cNvSpPr/>
          <p:nvPr/>
        </p:nvSpPr>
        <p:spPr>
          <a:xfrm>
            <a:off x="2881440" y="1652760"/>
            <a:ext cx="3412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9"/>
          <p:cNvSpPr/>
          <p:nvPr/>
        </p:nvSpPr>
        <p:spPr>
          <a:xfrm>
            <a:off x="6303960" y="3535200"/>
            <a:ext cx="139680" cy="1400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8"/>
          <p:cNvSpPr/>
          <p:nvPr/>
        </p:nvSpPr>
        <p:spPr>
          <a:xfrm>
            <a:off x="4513320" y="2492280"/>
            <a:ext cx="19764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OSICIONAMENTO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69"/>
          <p:cNvSpPr/>
          <p:nvPr/>
        </p:nvSpPr>
        <p:spPr>
          <a:xfrm>
            <a:off x="5238720" y="390996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3"/>
          <p:cNvSpPr/>
          <p:nvPr/>
        </p:nvSpPr>
        <p:spPr>
          <a:xfrm>
            <a:off x="5219640" y="2781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8"/>
          <p:cNvSpPr/>
          <p:nvPr/>
        </p:nvSpPr>
        <p:spPr>
          <a:xfrm>
            <a:off x="3862800" y="2924280"/>
            <a:ext cx="18561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DISPONIBILIDADE DE PR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7:02:49Z</dcterms:created>
  <dc:creator>z00304um</dc:creator>
  <dc:description/>
  <dc:language>en-US</dc:language>
  <cp:lastModifiedBy>z001pmsa</cp:lastModifiedBy>
  <cp:lastPrinted>2005-10-17T08:52:43Z</cp:lastPrinted>
  <dcterms:modified xsi:type="dcterms:W3CDTF">2014-04-07T02:15:22Z</dcterms:modified>
  <cp:revision>187</cp:revision>
  <dc:subject/>
  <dc:title>Decision Presentation Basic 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0AF5BF6D57784AA944F7BC3B3A0539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