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A6FA-8296-4DC4-9E54-516D555F0AB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5E35-FF0C-456F-A07D-D9F6C9A6A8A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D3D-8F6C-4154-8D0B-0F0E35C2B36D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D56-4D40-4DD2-B10B-883B51DC744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0100-278C-46BA-9715-2D9353F0523A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23C0-2FF8-4AA9-B7CE-EF37CDC96A92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9A5A-1BB2-4C83-BA2F-EC74667B5DD1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2156-CCC4-4431-AFA5-1AC1C9436C0B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2C6-B018-4DFA-A620-31AC385A8F7C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FF3-2FF3-431A-A353-C0F2E0E03EF8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48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0480" y="187920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48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0480" y="4172760"/>
            <a:ext cx="26431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620280"/>
            <a:ext cx="8209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17276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879200"/>
            <a:ext cx="400572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172760"/>
            <a:ext cx="8209080" cy="20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7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15545F-021E-433C-B574-B52AAB2E71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8"/>
          <p:cNvSpPr/>
          <p:nvPr/>
        </p:nvSpPr>
        <p:spPr>
          <a:xfrm>
            <a:off x="1889280" y="6488280"/>
            <a:ext cx="965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ctober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5"/>
          <p:cNvSpPr/>
          <p:nvPr/>
        </p:nvSpPr>
        <p:spPr>
          <a:xfrm>
            <a:off x="6121440" y="6488280"/>
            <a:ext cx="2635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 Brazil / F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6"/>
          <p:cNvSpPr/>
          <p:nvPr/>
        </p:nvSpPr>
        <p:spPr>
          <a:xfrm>
            <a:off x="3154320" y="6489720"/>
            <a:ext cx="249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tone, Cl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68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http://www.trabalhismoemdebate.com.br/wp-content/uploads/2012/01/cooperativa.jpg"/>
          <p:cNvPicPr/>
          <p:nvPr/>
        </p:nvPicPr>
        <p:blipFill>
          <a:blip r:embed="rId2"/>
          <a:stretch/>
        </p:blipFill>
        <p:spPr>
          <a:xfrm>
            <a:off x="4643280" y="6502320"/>
            <a:ext cx="289080" cy="2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7"/>
          <p:cNvSpPr/>
          <p:nvPr/>
        </p:nvSpPr>
        <p:spPr>
          <a:xfrm>
            <a:off x="285840" y="620640"/>
            <a:ext cx="8858160" cy="97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1879200"/>
            <a:ext cx="82090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 indent="-1886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73120" indent="-19044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63560" indent="-189000">
              <a:lnSpc>
                <a:spcPts val="23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98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ixaDeTexto 20"/>
          <p:cNvSpPr/>
          <p:nvPr/>
        </p:nvSpPr>
        <p:spPr>
          <a:xfrm>
            <a:off x="69840" y="19080"/>
            <a:ext cx="5797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ovos Modelos de Empresas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– Prof. Luciel Henrique de Oliv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 u="sng">
                <a:solidFill>
                  <a:srgbClr val="000000"/>
                </a:solidFill>
                <a:uFillTx/>
                <a:latin typeface="Arial"/>
              </a:rPr>
              <a:t>Grupo 5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rla Federegh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Diego Cade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Luciano Buzo dos Sant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Paulo Hidalg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Estratég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4920" y="2267280"/>
            <a:ext cx="9036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exigir dos produtores e proporcionar uma alimentação com base orgânica na produção de car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- aperfeiçoar o processo e cadeia de distribuição de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timização das indústrias – otimização e modernização dos ativos produtivos adquiridos da Seara + pré-existentes J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stão organizacional (G), Tecnológica (T) e Pessoas(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34920" y="1603080"/>
            <a:ext cx="9036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imento Mais Saudáve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criar uma linha especial de produtos mais saudáve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rover estrutura para garantir a qualidade desses produ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-  equipe qualificada para desenvolvimento e posicionamento dessa li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Logística integ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departamento especializado na gestão de logística de distribuição e fr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sistema de controle eficien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incentivo para alta performa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timização das indúst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 – reorganização dos setores com aproveitamento das sinergias para otimização dos 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 – plataforma integrada do chão de fábrica a alta g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 – adaptação das equipes à reorganização dos se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34920" y="2146320"/>
            <a:ext cx="90360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imento Mais Saudável – fortalecer a marca e atrair consumidores dispostos a pagar mais por produtos mais saudáveis.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ogística integrada &amp; Otimização das indústrias – redução de custos com consequente aumento da margem de lucro e maximização do valor da 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tângulo 21"/>
          <p:cNvSpPr/>
          <p:nvPr/>
        </p:nvSpPr>
        <p:spPr>
          <a:xfrm>
            <a:off x="0" y="0"/>
            <a:ext cx="925200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360" y="1255680"/>
            <a:ext cx="9252000" cy="258120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/>
          <p:cNvSpPr/>
          <p:nvPr/>
        </p:nvSpPr>
        <p:spPr>
          <a:xfrm>
            <a:off x="12708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m 16" descr="jbs.jpg"/>
          <p:cNvPicPr/>
          <p:nvPr/>
        </p:nvPicPr>
        <p:blipFill>
          <a:blip r:embed="rId2"/>
          <a:stretch/>
        </p:blipFill>
        <p:spPr>
          <a:xfrm>
            <a:off x="36360" y="4149720"/>
            <a:ext cx="9215640" cy="2708280"/>
          </a:xfrm>
          <a:prstGeom prst="rect">
            <a:avLst/>
          </a:prstGeom>
          <a:ln w="0">
            <a:noFill/>
          </a:ln>
        </p:spPr>
      </p:pic>
      <p:sp>
        <p:nvSpPr>
          <p:cNvPr id="230" name="CaixaDeTexto 19"/>
          <p:cNvSpPr/>
          <p:nvPr/>
        </p:nvSpPr>
        <p:spPr>
          <a:xfrm>
            <a:off x="0" y="3645000"/>
            <a:ext cx="9252000" cy="581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JBS.</a:t>
            </a:r>
            <a:r>
              <a:rPr b="0" lang="pt-BR" sz="3200" spc="-1" strike="noStrike">
                <a:solidFill>
                  <a:srgbClr val="ffffff"/>
                </a:solidFill>
                <a:latin typeface="Bookman Old Style"/>
              </a:rPr>
              <a:t> FAZ PARTE DO </a:t>
            </a:r>
            <a:r>
              <a:rPr b="1" lang="pt-BR" sz="3200" spc="-1" strike="noStrike">
                <a:solidFill>
                  <a:srgbClr val="ffffff"/>
                </a:solidFill>
                <a:latin typeface="Bookman Old Style"/>
              </a:rPr>
              <a:t>SEU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ixaDeTexto 20"/>
          <p:cNvSpPr/>
          <p:nvPr/>
        </p:nvSpPr>
        <p:spPr>
          <a:xfrm>
            <a:off x="179280" y="222120"/>
            <a:ext cx="57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Imagem 6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434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dústria Brasileira de Al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>
            <a:off x="7093080" y="765000"/>
            <a:ext cx="1788840" cy="630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08000" y="1951200"/>
            <a:ext cx="90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exportador mundial de alimentos processados ​​em volume e 5º em va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suco de lar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1º produtor e exportador mundial de açúc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e exportador mundial de car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produtor mundial de bombons e do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2º exportador mundial de café solúv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2 º exportador de óleo de so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3º produtor mundial e 1 º exportador de carne de av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e exportador mundial de carne de por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4º produtor mundial de leite em p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5º produtor mundial de chocol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6º produtor mundial de leite flu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tângulo 18"/>
          <p:cNvSpPr/>
          <p:nvPr/>
        </p:nvSpPr>
        <p:spPr>
          <a:xfrm>
            <a:off x="6408720" y="6642000"/>
            <a:ext cx="272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A Indústria Brasileira de Alimento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897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705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Inclinações do mer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18"/>
          <p:cNvSpPr/>
          <p:nvPr/>
        </p:nvSpPr>
        <p:spPr>
          <a:xfrm>
            <a:off x="7962120" y="6642000"/>
            <a:ext cx="117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ABIA 50 a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89308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10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64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z000rcwk\Pictures\frangosul.bmp"/>
          <p:cNvPicPr/>
          <p:nvPr/>
        </p:nvPicPr>
        <p:blipFill>
          <a:blip r:embed="rId4"/>
          <a:stretch/>
        </p:blipFill>
        <p:spPr>
          <a:xfrm>
            <a:off x="6588000" y="4797360"/>
            <a:ext cx="863640" cy="36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C:\Users\z000rcwk\Pictures\logo_footer_marcas_penaBranca.png"/>
          <p:cNvPicPr/>
          <p:nvPr/>
        </p:nvPicPr>
        <p:blipFill>
          <a:blip r:embed="rId5"/>
          <a:stretch/>
        </p:blipFill>
        <p:spPr>
          <a:xfrm>
            <a:off x="6804000" y="5516640"/>
            <a:ext cx="619200" cy="31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C:\Users\z000rcwk\Pictures\logo_footer_marcas_doriana.png"/>
          <p:cNvPicPr/>
          <p:nvPr/>
        </p:nvPicPr>
        <p:blipFill>
          <a:blip r:embed="rId6"/>
          <a:stretch/>
        </p:blipFill>
        <p:spPr>
          <a:xfrm>
            <a:off x="7812000" y="5445000"/>
            <a:ext cx="825480" cy="36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C:\Users\z000rcwk\Pictures\logo-footer-marcas-kitfesta.png"/>
          <p:cNvPicPr/>
          <p:nvPr/>
        </p:nvPicPr>
        <p:blipFill>
          <a:blip r:embed="rId7"/>
          <a:stretch/>
        </p:blipFill>
        <p:spPr>
          <a:xfrm>
            <a:off x="7740720" y="4724280"/>
            <a:ext cx="863640" cy="50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Users\z000rcwk\Pictures\JBS.jpg"/>
          <p:cNvPicPr/>
          <p:nvPr/>
        </p:nvPicPr>
        <p:blipFill>
          <a:blip r:embed="rId8"/>
          <a:stretch/>
        </p:blipFill>
        <p:spPr>
          <a:xfrm>
            <a:off x="183528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http://www.jbs.com.br/getImage.aspx?src=_img//1-logo-jbs-latas.jpg"/>
          <p:cNvPicPr/>
          <p:nvPr/>
        </p:nvPicPr>
        <p:blipFill>
          <a:blip r:embed="rId9"/>
          <a:stretch/>
        </p:blipFill>
        <p:spPr>
          <a:xfrm>
            <a:off x="3348000" y="3213000"/>
            <a:ext cx="857160" cy="53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http://www.jbs.com.br/getImage.aspx?src=_img//1-logo-jbs-biodiesel.jpg"/>
          <p:cNvPicPr/>
          <p:nvPr/>
        </p:nvPicPr>
        <p:blipFill>
          <a:blip r:embed="rId10"/>
          <a:stretch/>
        </p:blipFill>
        <p:spPr>
          <a:xfrm>
            <a:off x="4643280" y="3213000"/>
            <a:ext cx="857520" cy="53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http://www.jbs.com.br/getImage.aspx?src=_img//1-logo-jbs-transportadora.jpg"/>
          <p:cNvPicPr/>
          <p:nvPr/>
        </p:nvPicPr>
        <p:blipFill>
          <a:blip r:embed="rId11"/>
          <a:stretch/>
        </p:blipFill>
        <p:spPr>
          <a:xfrm>
            <a:off x="6084720" y="3213000"/>
            <a:ext cx="857520" cy="533520"/>
          </a:xfrm>
          <a:prstGeom prst="rect">
            <a:avLst/>
          </a:prstGeom>
          <a:ln w="0">
            <a:noFill/>
          </a:ln>
        </p:spPr>
      </p:pic>
      <p:sp>
        <p:nvSpPr>
          <p:cNvPr id="124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Você conhece essas m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10" descr=""/>
          <p:cNvPicPr/>
          <p:nvPr/>
        </p:nvPicPr>
        <p:blipFill>
          <a:blip r:embed="rId1"/>
          <a:srcRect l="816" t="0" r="0" b="0"/>
          <a:stretch/>
        </p:blipFill>
        <p:spPr>
          <a:xfrm>
            <a:off x="303120" y="1728720"/>
            <a:ext cx="874872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Imagem 11" descr=""/>
          <p:cNvPicPr/>
          <p:nvPr/>
        </p:nvPicPr>
        <p:blipFill>
          <a:blip r:embed="rId2"/>
          <a:stretch/>
        </p:blipFill>
        <p:spPr>
          <a:xfrm>
            <a:off x="285840" y="2781360"/>
            <a:ext cx="7561080" cy="100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0" y="370368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Líder mundial em processamento de carne bovin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ovina e de aves, além de ter uma forte participação na produção de carne suí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Co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plataformas de produção e escritó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no Brasil, Argentina, Itália, Austrália, EUA, Uruguai, Paraguai, México, China e Rúss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Seguem 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terceiro no mercado do agronegócio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 É 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maior exportadora do mundo de proteína anima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>
              <a:lnSpc>
                <a:spcPct val="150000"/>
              </a:lnSpc>
              <a:buClr>
                <a:srgbClr val="000000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novos JBS Food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, que incorpora as operações da Seara, Frangosul e Doriana nasce com $Bn 6'0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eleva o grupo para $Bn 100'0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Mercado de Car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Quem é o Grupo JB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ângulo 18"/>
          <p:cNvSpPr/>
          <p:nvPr/>
        </p:nvSpPr>
        <p:spPr>
          <a:xfrm>
            <a:off x="7759440" y="6642000"/>
            <a:ext cx="137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Exame M&amp;M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819" t="0" r="0" b="4843"/>
          <a:stretch/>
        </p:blipFill>
        <p:spPr>
          <a:xfrm>
            <a:off x="289080" y="1628640"/>
            <a:ext cx="878508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0" r="0" b="5458"/>
          <a:stretch/>
        </p:blipFill>
        <p:spPr>
          <a:xfrm>
            <a:off x="287280" y="1628640"/>
            <a:ext cx="8748720" cy="4896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7230960" y="6639840"/>
            <a:ext cx="205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nte: Roland Berger Consul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Cenário at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539640" y="620640"/>
            <a:ext cx="820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620640"/>
            <a:ext cx="82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upo JBS  &amp; JBS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Calibri"/>
              </a:rPr>
              <a:t>Processos Essenciais &amp;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841480" y="1679400"/>
            <a:ext cx="4718160" cy="3641760"/>
          </a:xfrm>
          <a:prstGeom prst="rect">
            <a:avLst/>
          </a:prstGeom>
          <a:solidFill>
            <a:srgbClr val="99ccff"/>
          </a:solidFill>
          <a:ln w="50760">
            <a:solidFill>
              <a:srgbClr val="ff99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658880" y="3108240"/>
            <a:ext cx="1303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689120" y="199224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lhor 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6560" y="4389480"/>
            <a:ext cx="7239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i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032280" y="5396040"/>
            <a:ext cx="1334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Pou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Releva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26000" y="5396040"/>
            <a:ext cx="1317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Qualifica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02280" y="5396040"/>
            <a:ext cx="15350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Ganhado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500" spc="-1" strike="noStrike">
                <a:solidFill>
                  <a:srgbClr val="949eaa"/>
                </a:solidFill>
                <a:latin typeface="Arial"/>
                <a:ea typeface="SimSun"/>
              </a:rPr>
              <a:t>de ped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rc 9"/>
          <p:cNvSpPr/>
          <p:nvPr/>
        </p:nvSpPr>
        <p:spPr>
          <a:xfrm>
            <a:off x="2889360" y="1697040"/>
            <a:ext cx="2108160" cy="113508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135080"/>
              <a:gd name="textAreaBottom" fmla="*/ 1135440 h 1135080"/>
            </a:gdLst>
            <a:ahLst/>
            <a:rect l="textAreaLeft" t="textAreaTop" r="textAreaRight" b="textAreaBottom"/>
            <a:pathLst>
              <a:path fill="none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</a:path>
              <a:path stroke="0" w="21600" h="21630">
                <a:moveTo>
                  <a:pt x="21599" y="0"/>
                </a:moveTo>
                <a:cubicBezTo>
                  <a:pt x="21599" y="10"/>
                  <a:pt x="21600" y="20"/>
                  <a:pt x="21600" y="30"/>
                </a:cubicBezTo>
                <a:cubicBezTo>
                  <a:pt x="21600" y="11959"/>
                  <a:pt x="11929" y="21629"/>
                  <a:pt x="0" y="21630"/>
                </a:cubicBezTo>
                <a:lnTo>
                  <a:pt x="0" y="3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 flipV="1">
            <a:off x="2841480" y="2813040"/>
            <a:ext cx="4641840" cy="966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11"/>
          <p:cNvSpPr/>
          <p:nvPr/>
        </p:nvSpPr>
        <p:spPr>
          <a:xfrm rot="21060000">
            <a:off x="4103280" y="3855600"/>
            <a:ext cx="3567240" cy="1176480"/>
          </a:xfrm>
          <a:custGeom>
            <a:avLst/>
            <a:gdLst>
              <a:gd name="textAreaLeft" fmla="*/ 0 w 3567240"/>
              <a:gd name="textAreaRight" fmla="*/ 3567600 w 3567240"/>
              <a:gd name="textAreaTop" fmla="*/ 0 h 1176480"/>
              <a:gd name="textAreaBottom" fmla="*/ 1176840 h 1176480"/>
            </a:gdLst>
            <a:ahLst/>
            <a:rect l="textAreaLeft" t="textAreaTop" r="textAreaRight" b="textAreaBottom"/>
            <a:pathLst>
              <a:path fill="none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</a:path>
              <a:path stroke="0" w="22699" h="21600">
                <a:moveTo>
                  <a:pt x="0" y="21571"/>
                </a:moveTo>
                <a:cubicBezTo>
                  <a:pt x="16" y="9652"/>
                  <a:pt x="9681" y="-1"/>
                  <a:pt x="21600" y="0"/>
                </a:cubicBezTo>
                <a:cubicBezTo>
                  <a:pt x="21966" y="0"/>
                  <a:pt x="22332" y="9"/>
                  <a:pt x="22699" y="27"/>
                </a:cubicBez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467160" y="1930320"/>
            <a:ext cx="13748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90520" y="1660680"/>
            <a:ext cx="1247760" cy="3606480"/>
          </a:xfrm>
          <a:custGeom>
            <a:avLst/>
            <a:gdLst>
              <a:gd name="textAreaLeft" fmla="*/ 45360 w 1247760"/>
              <a:gd name="textAreaRight" fmla="*/ 1202400 w 1247760"/>
              <a:gd name="textAreaTop" fmla="*/ 45360 h 3606480"/>
              <a:gd name="textAreaBottom" fmla="*/ 3561120 h 3606480"/>
            </a:gdLst>
            <a:ahLst/>
            <a:rect l="textAreaLeft" t="textAreaTop" r="textAreaRight" b="textAreaBottom"/>
            <a:pathLst>
              <a:path w="21600" h="62420">
                <a:moveTo>
                  <a:pt x="2699" y="0"/>
                </a:moveTo>
                <a:arcTo wR="2699" hR="2699" stAng="16200000" swAng="-5400000"/>
                <a:lnTo>
                  <a:pt x="0" y="59721"/>
                </a:lnTo>
                <a:arcTo wR="2699" hR="2699" stAng="10800000" swAng="-5400000"/>
                <a:lnTo>
                  <a:pt x="18901" y="62420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 rot="16200000">
            <a:off x="-717120" y="3011040"/>
            <a:ext cx="340200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DESEMPEN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 </a:t>
            </a:r>
            <a:r>
              <a:rPr b="1" lang="pt-BR" sz="1300" spc="-1" strike="noStrike">
                <a:solidFill>
                  <a:srgbClr val="949eaa"/>
                </a:solidFill>
                <a:latin typeface="Arial"/>
                <a:ea typeface="SimSun"/>
              </a:rPr>
              <a:t>comparado com 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900" spc="-1" strike="noStrike">
                <a:solidFill>
                  <a:srgbClr val="949eaa"/>
                </a:solidFill>
                <a:latin typeface="Arial"/>
                <a:ea typeface="SimSun"/>
              </a:rPr>
              <a:t>CONCOR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1081080" y="1628640"/>
            <a:ext cx="0" cy="91944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1081080" y="4286160"/>
            <a:ext cx="0" cy="81756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689120" y="3151080"/>
            <a:ext cx="101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esmo qu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916360" y="5979960"/>
            <a:ext cx="2786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3211560" y="5865840"/>
            <a:ext cx="4167000" cy="882720"/>
          </a:xfrm>
          <a:prstGeom prst="roundRect">
            <a:avLst>
              <a:gd name="adj" fmla="val 12495"/>
            </a:avLst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3625920" y="5943600"/>
            <a:ext cx="33447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IMPORTÂ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para 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 flipH="1">
            <a:off x="3238200" y="6337440"/>
            <a:ext cx="157140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2"/>
          <p:cNvSpPr/>
          <p:nvPr/>
        </p:nvSpPr>
        <p:spPr>
          <a:xfrm>
            <a:off x="5823000" y="6337440"/>
            <a:ext cx="1469880" cy="0"/>
          </a:xfrm>
          <a:prstGeom prst="line">
            <a:avLst/>
          </a:prstGeom>
          <a:ln w="507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3249720" y="6438960"/>
            <a:ext cx="729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aix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6796080" y="6438960"/>
            <a:ext cx="5475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al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 rot="16200000">
            <a:off x="637920" y="1646280"/>
            <a:ext cx="630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b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 rot="16200000">
            <a:off x="709920" y="4710960"/>
            <a:ext cx="6192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1" lang="pt-BR" sz="1700" spc="-1" strike="noStrike">
                <a:solidFill>
                  <a:srgbClr val="949eaa"/>
                </a:solidFill>
                <a:latin typeface="Arial"/>
                <a:ea typeface="SimSun"/>
              </a:rPr>
              <a:t>ma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2197080" y="1733400"/>
            <a:ext cx="0" cy="27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8"/>
          <p:cNvSpPr/>
          <p:nvPr/>
        </p:nvSpPr>
        <p:spPr>
          <a:xfrm>
            <a:off x="2197080" y="2890800"/>
            <a:ext cx="0" cy="27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9"/>
          <p:cNvSpPr/>
          <p:nvPr/>
        </p:nvSpPr>
        <p:spPr>
          <a:xfrm>
            <a:off x="2197080" y="3976560"/>
            <a:ext cx="0" cy="42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197080" y="251568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1"/>
          <p:cNvSpPr/>
          <p:nvPr/>
        </p:nvSpPr>
        <p:spPr>
          <a:xfrm flipV="1">
            <a:off x="2197080" y="367524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2"/>
          <p:cNvSpPr/>
          <p:nvPr/>
        </p:nvSpPr>
        <p:spPr>
          <a:xfrm flipV="1">
            <a:off x="2197080" y="490500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2895480" y="563580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4"/>
          <p:cNvSpPr/>
          <p:nvPr/>
        </p:nvSpPr>
        <p:spPr>
          <a:xfrm>
            <a:off x="456084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5"/>
          <p:cNvSpPr/>
          <p:nvPr/>
        </p:nvSpPr>
        <p:spPr>
          <a:xfrm>
            <a:off x="5935680" y="5635800"/>
            <a:ext cx="34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6"/>
          <p:cNvSpPr/>
          <p:nvPr/>
        </p:nvSpPr>
        <p:spPr>
          <a:xfrm flipH="1">
            <a:off x="4113000" y="56358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7"/>
          <p:cNvSpPr/>
          <p:nvPr/>
        </p:nvSpPr>
        <p:spPr>
          <a:xfrm flipH="1">
            <a:off x="5560920" y="5635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8"/>
          <p:cNvSpPr/>
          <p:nvPr/>
        </p:nvSpPr>
        <p:spPr>
          <a:xfrm flipH="1">
            <a:off x="7081560" y="563580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9"/>
          <p:cNvSpPr/>
          <p:nvPr/>
        </p:nvSpPr>
        <p:spPr>
          <a:xfrm>
            <a:off x="31654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0"/>
          <p:cNvSpPr/>
          <p:nvPr/>
        </p:nvSpPr>
        <p:spPr>
          <a:xfrm>
            <a:off x="36990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42321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47656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52992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583236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36588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68994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7"/>
          <p:cNvSpPr/>
          <p:nvPr/>
        </p:nvSpPr>
        <p:spPr>
          <a:xfrm>
            <a:off x="7356600" y="1701720"/>
            <a:ext cx="0" cy="364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8"/>
          <p:cNvSpPr/>
          <p:nvPr/>
        </p:nvSpPr>
        <p:spPr>
          <a:xfrm>
            <a:off x="2867040" y="19242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9"/>
          <p:cNvSpPr/>
          <p:nvPr/>
        </p:nvSpPr>
        <p:spPr>
          <a:xfrm>
            <a:off x="2867040" y="23814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0"/>
          <p:cNvSpPr/>
          <p:nvPr/>
        </p:nvSpPr>
        <p:spPr>
          <a:xfrm>
            <a:off x="2867040" y="2838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1"/>
          <p:cNvSpPr/>
          <p:nvPr/>
        </p:nvSpPr>
        <p:spPr>
          <a:xfrm>
            <a:off x="2867040" y="3219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2"/>
          <p:cNvSpPr/>
          <p:nvPr/>
        </p:nvSpPr>
        <p:spPr>
          <a:xfrm>
            <a:off x="2867040" y="3600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3"/>
          <p:cNvSpPr/>
          <p:nvPr/>
        </p:nvSpPr>
        <p:spPr>
          <a:xfrm>
            <a:off x="2867040" y="3981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4"/>
          <p:cNvSpPr/>
          <p:nvPr/>
        </p:nvSpPr>
        <p:spPr>
          <a:xfrm>
            <a:off x="2867040" y="512460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5"/>
          <p:cNvSpPr/>
          <p:nvPr/>
        </p:nvSpPr>
        <p:spPr>
          <a:xfrm>
            <a:off x="2867040" y="436248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6"/>
          <p:cNvSpPr/>
          <p:nvPr/>
        </p:nvSpPr>
        <p:spPr>
          <a:xfrm>
            <a:off x="2867040" y="4743360"/>
            <a:ext cx="471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4205880" y="3573360"/>
            <a:ext cx="10209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REÇO/CU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8"/>
          <p:cNvSpPr/>
          <p:nvPr/>
        </p:nvSpPr>
        <p:spPr>
          <a:xfrm>
            <a:off x="5365440" y="2060640"/>
            <a:ext cx="17402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QUALIDADE DO PRODU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9"/>
          <p:cNvSpPr/>
          <p:nvPr/>
        </p:nvSpPr>
        <p:spPr>
          <a:xfrm>
            <a:off x="5420520" y="332892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ALIMENTO MAIS SAUDÁ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0"/>
          <p:cNvSpPr/>
          <p:nvPr/>
        </p:nvSpPr>
        <p:spPr>
          <a:xfrm>
            <a:off x="5876280" y="4094280"/>
            <a:ext cx="15710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LOGISTICA INTEG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4"/>
          <p:cNvSpPr/>
          <p:nvPr/>
        </p:nvSpPr>
        <p:spPr>
          <a:xfrm>
            <a:off x="5232960" y="4437000"/>
            <a:ext cx="20055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OTIMIZAÇÃO DAS INDÚST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5"/>
          <p:cNvSpPr/>
          <p:nvPr/>
        </p:nvSpPr>
        <p:spPr>
          <a:xfrm>
            <a:off x="3373560" y="4022640"/>
            <a:ext cx="18349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FLEXIBILIDADE DE VOL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8"/>
          <p:cNvSpPr/>
          <p:nvPr/>
        </p:nvSpPr>
        <p:spPr>
          <a:xfrm>
            <a:off x="5238720" y="352584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0"/>
          <p:cNvSpPr/>
          <p:nvPr/>
        </p:nvSpPr>
        <p:spPr>
          <a:xfrm>
            <a:off x="5219640" y="465300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1"/>
          <p:cNvSpPr/>
          <p:nvPr/>
        </p:nvSpPr>
        <p:spPr>
          <a:xfrm>
            <a:off x="6829560" y="4292640"/>
            <a:ext cx="139680" cy="139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2"/>
          <p:cNvSpPr/>
          <p:nvPr/>
        </p:nvSpPr>
        <p:spPr>
          <a:xfrm>
            <a:off x="6296040" y="184932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73"/>
          <p:cNvSpPr/>
          <p:nvPr/>
        </p:nvSpPr>
        <p:spPr>
          <a:xfrm>
            <a:off x="5237280" y="2322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5"/>
          <p:cNvSpPr/>
          <p:nvPr/>
        </p:nvSpPr>
        <p:spPr>
          <a:xfrm>
            <a:off x="2971800" y="4973760"/>
            <a:ext cx="476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spAutoFit/>
          </a:bodyPr>
          <a:p>
            <a:pPr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 </a:t>
            </a:r>
            <a:r>
              <a:rPr b="1" lang="pt-BR" sz="2300" spc="-1" strike="noStrike">
                <a:solidFill>
                  <a:srgbClr val="081d58"/>
                </a:solidFill>
                <a:latin typeface="Arial"/>
                <a:ea typeface="SimSun"/>
              </a:rPr>
              <a:t>9     8     7    6     5    4     3     2   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6"/>
          <p:cNvSpPr/>
          <p:nvPr/>
        </p:nvSpPr>
        <p:spPr>
          <a:xfrm>
            <a:off x="2881440" y="1652760"/>
            <a:ext cx="3412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pt-BR" sz="2200" spc="-1" strike="noStrike">
                <a:solidFill>
                  <a:srgbClr val="081d58"/>
                </a:solidFill>
                <a:latin typeface="Arial"/>
                <a:ea typeface="SimSu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9"/>
          <p:cNvSpPr/>
          <p:nvPr/>
        </p:nvSpPr>
        <p:spPr>
          <a:xfrm>
            <a:off x="6303960" y="3535200"/>
            <a:ext cx="139680" cy="1400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8"/>
          <p:cNvSpPr/>
          <p:nvPr/>
        </p:nvSpPr>
        <p:spPr>
          <a:xfrm>
            <a:off x="4513320" y="2492280"/>
            <a:ext cx="19764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POSICIONAMENTO DE MA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69"/>
          <p:cNvSpPr/>
          <p:nvPr/>
        </p:nvSpPr>
        <p:spPr>
          <a:xfrm>
            <a:off x="5238720" y="3909960"/>
            <a:ext cx="139680" cy="1396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3"/>
          <p:cNvSpPr/>
          <p:nvPr/>
        </p:nvSpPr>
        <p:spPr>
          <a:xfrm>
            <a:off x="5219640" y="2781360"/>
            <a:ext cx="139680" cy="1396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3862800" y="2924280"/>
            <a:ext cx="18561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2320" bIns="22320" anchor="t">
            <a:spAutoFit/>
          </a:bodyPr>
          <a:p>
            <a:pPr>
              <a:tabLst>
                <a:tab algn="l" pos="0"/>
                <a:tab algn="l" pos="187200"/>
                <a:tab algn="l" pos="374760"/>
                <a:tab algn="l" pos="561960"/>
                <a:tab algn="l" pos="749160"/>
                <a:tab algn="l" pos="936720"/>
                <a:tab algn="l" pos="1123920"/>
                <a:tab algn="l" pos="1311120"/>
                <a:tab algn="l" pos="1498680"/>
                <a:tab algn="l" pos="1685880"/>
                <a:tab algn="l" pos="1873080"/>
                <a:tab algn="l" pos="2060640"/>
                <a:tab algn="l" pos="2247840"/>
                <a:tab algn="l" pos="2435400"/>
                <a:tab algn="l" pos="2622600"/>
                <a:tab algn="l" pos="2809800"/>
                <a:tab algn="l" pos="2997360"/>
                <a:tab algn="l" pos="3184560"/>
                <a:tab algn="l" pos="3371760"/>
                <a:tab algn="l" pos="3559320"/>
                <a:tab algn="l" pos="3746520"/>
              </a:tabLst>
            </a:pPr>
            <a:r>
              <a:rPr b="1" i="1" lang="pt-BR" sz="1000" spc="-1" strike="noStrike">
                <a:solidFill>
                  <a:srgbClr val="00279f"/>
                </a:solidFill>
                <a:latin typeface="Arial"/>
                <a:ea typeface="SimSun"/>
              </a:rPr>
              <a:t>DISPONIBILIDADE DE PR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7:02:49Z</dcterms:created>
  <dc:creator>z00304um</dc:creator>
  <dc:description/>
  <dc:language>en-US</dc:language>
  <cp:lastModifiedBy>z001pmsa</cp:lastModifiedBy>
  <cp:lastPrinted>2005-10-17T08:52:43Z</cp:lastPrinted>
  <dcterms:modified xsi:type="dcterms:W3CDTF">2014-04-07T02:15:22Z</dcterms:modified>
  <cp:revision>187</cp:revision>
  <dc:subject/>
  <dc:title>Decision Presentation Basic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30AF5BF6D57784AA944F7BC3B3A0539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