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844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4278240" y="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427788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1EA513-4764-4E49-A040-ED44C79E8923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95CE90-6128-4D83-B2D2-23CE9D9891FA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85D08D-05F2-444D-8B42-D848B1BD4B68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0C7714-4B2C-48E4-861A-05128245A583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25166E-15E5-4BC2-A7DC-82F378302D1C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C7ABC0-0393-48EE-9279-1C1A7FFE39DC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39D7E-FE8A-45E6-9F1D-46ABD6A72F93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7B30D1-565F-45D3-BDC5-F065BB987A5C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90D0E0-AE9B-484F-912D-C870FC9DD82E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54192F-209B-4DB1-9213-E08B8BA29944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E35C47-BAA5-4639-AFAC-394DCE0C9129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3DBA57-847E-4CF7-9236-567DB1394022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D5AD55-8FF4-434F-A6CF-E314FA4D3B71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E4A4E5-EBF1-41BB-93E0-45FA81E0699C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31D21-5590-431A-9904-280E1B492B49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1F1FF7-EB3F-465D-9B7F-704C8ADE66BE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C309A-8AA6-4CA4-8532-A959C59DC312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EFD690-B4BF-4FAE-A189-935E4BDDE8BB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24AD7E-089F-4BEF-BEA1-4F009FC9E84B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22CD54-CD14-4438-B7B0-F46C833E9B21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74DD25-5442-4AE2-BAF5-77CB723707F5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8E22F-EFE6-4273-9031-4D7D20FAE2AD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E6AB8-2A24-412A-84D2-FF021FB2C74C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5054C5-3A58-46D6-BDB3-2C0862E0773C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FD2D54-9F79-4D33-8794-D8BFAB0F000D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EEE38A-35C2-44C0-A89F-7525E527AFBB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DEB23F-6EB3-43A0-915F-2F54ACE282E1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994958-C124-4301-A04D-B06EA1D4C443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DE282-0442-482A-9E4F-7D7170AFD614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FAB9D-D38C-4407-BEB0-70BF995732B2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077ACF-D46E-4079-AE7E-4278862284E8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8BF3D-2A85-4DD5-8844-7316E0E8C2BF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5D502F-D7B6-4810-A38D-A71AABA39749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586ACF-06C4-48F9-977F-9A4ACCA27757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6A2B6C-53F4-4C8A-B0F8-696263C314F9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439855-AA6D-417E-868D-144EE89F6BC4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207DAA-5347-4157-8491-36B00E448EF0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99BD4-73EE-48FB-8711-8E6A4A885016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77F6DC-DA4E-44F3-AC06-8266A7BD0067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2F2CBC-5DB5-4CEB-8B8F-F423E8F366E2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E152AE-5816-48A9-B922-A097EA04C3F2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B125E1-25CB-46E1-BD05-E024A00526CB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0B802-8654-474A-B873-0B44922905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898160"/>
            <a:ext cx="906444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F48C3-332C-4A62-982E-E2657C14DB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8981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8981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3B24D-1002-4943-A025-73337CD0AE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8981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8981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8981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5C05C-012F-4042-AA16-DB5F36C889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538DB-C2F2-4575-BEAB-97AFCA20B9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C0768-6A6E-4E39-8B60-BC54FB21F0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DFFB4-79EA-466E-9415-29B5C05352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3E2B3-47C4-4998-AFB6-41F564B094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5D728-61C7-440B-AB60-75C0F623D9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8981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FD2C9-CB07-4B25-B30B-918D3CAE48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8981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24701-73C9-4322-8344-ADC0D561E0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898160"/>
            <a:ext cx="906444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63538-1D78-432D-8087-7404B7CF25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50328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55617C7-AE92-458E-B05A-41601FA3E910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google.com.br/url?sa=i&amp;rct=j&amp;q=&amp;esrc=s&amp;source=images&amp;cd=&amp;cad=rja&amp;uact=8&amp;docid=MxaY8zO0Cz-SbM&amp;tbnid=sS5n__-LJCgMcM:&amp;ved=0CAUQjRw&amp;url=http%3A%2F%2Fwww.e-commerceguide.com.br%2Fpage%2F20&amp;ei=BSs4U9qLIofh0wHD-YGwAQ&amp;bvm=bv.63808443,d.dmQ&amp;psig=AFQjCNEchoY5gIqbbQNKQakSpdauaWPtaw&amp;ust=1396276344849206" TargetMode="External"/><Relationship Id="rId3" Type="http://schemas.openxmlformats.org/officeDocument/2006/relationships/hyperlink" Target="http://www.google.com.br/url?sa=i&amp;rct=j&amp;q=&amp;esrc=s&amp;source=images&amp;cd=&amp;cad=rja&amp;uact=8&amp;docid=MxaY8zO0Cz-SbM&amp;tbnid=sS5n__-LJCgMcM:&amp;ved=0CAUQjRw&amp;url=http%3A%2F%2Fwww.e-commerceguide.com.br%2Fpage%2F20&amp;ei=BSs4U9qLIofh0wHD-YGwAQ&amp;bvm=bv.63808443,d.dmQ&amp;psig=AFQjCNEchoY5gIqbbQNKQakSpdauaWPtaw&amp;ust=1396276344849206" TargetMode="External"/><Relationship Id="rId4" Type="http://schemas.openxmlformats.org/officeDocument/2006/relationships/hyperlink" Target="http://www.google.com.br/url?sa=i&amp;rct=j&amp;q=&amp;esrc=s&amp;source=images&amp;cd=&amp;cad=rja&amp;uact=8&amp;docid=MxaY8zO0Cz-SbM&amp;tbnid=sS5n__-LJCgMcM:&amp;ved=0CAUQjRw&amp;url=http%3A%2F%2Fwww.e-commerceguide.com.br%2Fpage%2F20&amp;ei=BSs4U9qLIofh0wHD-YGwAQ&amp;bvm=bv.63808443,d.dmQ&amp;psig=AFQjCNEchoY5gIqbbQNKQakSpdauaWPtaw&amp;ust=1396276344849206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google.com.br/url?sa=i&amp;rct=j&amp;q=&amp;esrc=s&amp;source=images&amp;cd=&amp;cad=rja&amp;uact=8&amp;docid=X5y_KKJR5IenYM&amp;tbnid=-0e_MSYy4wqATM:&amp;ved=0CAUQjRw&amp;url=http%3A%2F%2Fwww.leotubarao.com.br%2Ftag%2Fe-commerce%2F&amp;ei=_Wg7U5yoAqP30gH47YDoCA&amp;bvm=bv.63934634,d.dmQ&amp;psig=AFQjCNH1oUePgvb6z6OlA4dDvOqASPNDYw&amp;ust=1396488822015251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oogle.com.br/url?sa=i&amp;rct=j&amp;q=&amp;esrc=s&amp;source=images&amp;cd=&amp;cad=rja&amp;uact=8&amp;docid=hDlcQ3Sq35pySM&amp;tbnid=L_ANeLK-unkrTM:&amp;ved=0CAUQjRw&amp;url=http%3A%2F%2Fwww.baresbh.com%2F2013_05_01_archive.html&amp;ei=gXE4U_bvAor40gHOr4FA&amp;bvm=bv.63808443,d.dmQ&amp;psig=AFQjCNHNcyvtRanPyVqguxWXINzyIBX8Ig&amp;ust=1396294388205164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kantarworldpanel.com/br/Releases/news-articles/Olho-no-porta-a-porta" TargetMode="External"/><Relationship Id="rId2" Type="http://schemas.openxmlformats.org/officeDocument/2006/relationships/hyperlink" Target="http://www.ibope.com.br/pt-br/noticias/Paginas/Cresce-o-consumo-de-maquiagem-entre-as-brasileiras.aspx" TargetMode="External"/><Relationship Id="rId3" Type="http://schemas.openxmlformats.org/officeDocument/2006/relationships/hyperlink" Target="http://exame.abril.com.br/negocios/noticias/m-a-c-quer-dobrar-de-tamanho-no-brasil-em-tres-anos" TargetMode="External"/><Relationship Id="rId4" Type="http://schemas.openxmlformats.org/officeDocument/2006/relationships/hyperlink" Target="http://www.cosmeticanews.com.br/leitura.php?n=atualidade-cosmetica-promove-evento-sobre-o-mercado-de-maquiagem-no-brasil&amp;id=4650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xame.com.br/topicos/marcas" TargetMode="External"/><Relationship Id="rId2" Type="http://schemas.openxmlformats.org/officeDocument/2006/relationships/hyperlink" Target="http://www.exame.com.br/topicos/consumo" TargetMode="External"/><Relationship Id="rId3" Type="http://schemas.openxmlformats.org/officeDocument/2006/relationships/hyperlink" Target="http://www.exame.com.br/topicos/imagem" TargetMode="Externa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Natura – linha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rabalho de ca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7343640" y="6119640"/>
            <a:ext cx="223200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rup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igia Jur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aniela Ferrei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nise Rodrig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biara Marfina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71280" y="1224000"/>
            <a:ext cx="9792000" cy="62643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CANVAS – linha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7991640" y="2016000"/>
            <a:ext cx="14396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úblico feminino adolescente e adulto das  Classes B e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5256360" y="6195960"/>
            <a:ext cx="36716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enda de produtos via consultoras (venda diret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87280" y="6191280"/>
            <a:ext cx="36720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P&amp;D e Mark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Matéria-pri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Fabricação e Distribui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4032360" y="2092320"/>
            <a:ext cx="1800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EM ESTAR BE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Valorizar a beleza existente em toda mul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Relação custo benefí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Tratamento cosmético junto com maquiag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832360" y="1909800"/>
            <a:ext cx="216072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lação é a base modelo do negócio: consultoras conhecem produtos e cl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5904000" y="3803760"/>
            <a:ext cx="194472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enda dire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lacionamen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 confiança com o cliente final através da consulto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2087640" y="1932120"/>
            <a:ext cx="1944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dução ,  distribuição e venda de cosmét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144360" y="1728720"/>
            <a:ext cx="18003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Fornecedores de insumos e embalage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Comunidades que fornecem insumos sustentáve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Consultoras de negó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2160720" y="4103640"/>
            <a:ext cx="17287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Fornecedores qualificado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- Consultora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Terceiros (fabricação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P&amp;D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CaixaDeTexto 4"/>
          <p:cNvSpPr/>
          <p:nvPr/>
        </p:nvSpPr>
        <p:spPr>
          <a:xfrm>
            <a:off x="287280" y="1692360"/>
            <a:ext cx="979344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A venda direta representa um desafio para empresas do setor, que têm em suas representantes e consultoras a base de seu negócio – e não trabalham com franquias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O e-commerce poderia ser uma saída, não representasse um risco ao principal canal de vendas das companhia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11" descr=""/>
          <p:cNvPicPr/>
          <p:nvPr/>
        </p:nvPicPr>
        <p:blipFill>
          <a:blip r:embed="rId1"/>
          <a:stretch/>
        </p:blipFill>
        <p:spPr>
          <a:xfrm>
            <a:off x="1944720" y="2987640"/>
            <a:ext cx="5746680" cy="27068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Ambiente futur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2">
            <a:hlinkClick r:id="rId2"/>
          </p:cNvPr>
          <p:cNvSpPr/>
          <p:nvPr/>
        </p:nvSpPr>
        <p:spPr>
          <a:xfrm>
            <a:off x="58680" y="-1790640"/>
            <a:ext cx="79246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4">
            <a:hlinkClick r:id="rId3"/>
          </p:cNvPr>
          <p:cNvSpPr/>
          <p:nvPr/>
        </p:nvSpPr>
        <p:spPr>
          <a:xfrm>
            <a:off x="0" y="-2197080"/>
            <a:ext cx="79246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6">
            <a:hlinkClick r:id="rId4"/>
          </p:cNvPr>
          <p:cNvSpPr/>
          <p:nvPr/>
        </p:nvSpPr>
        <p:spPr>
          <a:xfrm>
            <a:off x="287280" y="179280"/>
            <a:ext cx="79246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10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216000" y="301680"/>
            <a:ext cx="96487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atriz impacto X Grau de incerte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92000" y="1403280"/>
          <a:ext cx="6985080" cy="4465800"/>
        </p:xfrm>
        <a:graphic>
          <a:graphicData uri="http://schemas.openxmlformats.org/drawingml/2006/table">
            <a:tbl>
              <a:tblPr/>
              <a:tblGrid>
                <a:gridCol w="3492720"/>
                <a:gridCol w="3492360"/>
              </a:tblGrid>
              <a:tr h="22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23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106" name="CaixaDeTexto 4"/>
          <p:cNvSpPr/>
          <p:nvPr/>
        </p:nvSpPr>
        <p:spPr>
          <a:xfrm>
            <a:off x="1079640" y="626904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no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i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rau de incerte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CaixaDeTexto 5"/>
          <p:cNvSpPr/>
          <p:nvPr/>
        </p:nvSpPr>
        <p:spPr>
          <a:xfrm rot="16200000">
            <a:off x="-2193120" y="367416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mpa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no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i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CaixaDeTexto 6"/>
          <p:cNvSpPr/>
          <p:nvPr/>
        </p:nvSpPr>
        <p:spPr>
          <a:xfrm>
            <a:off x="7920000" y="1835280"/>
            <a:ext cx="216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– Cliente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 – Concorrê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 – Econôm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 – Tecnológ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 – So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 – Polít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 – Juríd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 – Fís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 – Disponibilidade do produ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Retângulo 7" descr=""/>
          <p:cNvPicPr/>
          <p:nvPr/>
        </p:nvPicPr>
        <p:blipFill>
          <a:blip r:embed="rId1"/>
          <a:stretch/>
        </p:blipFill>
        <p:spPr>
          <a:xfrm>
            <a:off x="4254480" y="1517760"/>
            <a:ext cx="798480" cy="664920"/>
          </a:xfrm>
          <a:prstGeom prst="rect">
            <a:avLst/>
          </a:prstGeom>
          <a:ln w="0">
            <a:noFill/>
          </a:ln>
        </p:spPr>
      </p:pic>
      <p:pic>
        <p:nvPicPr>
          <p:cNvPr id="110" name="Retângulo 9" descr=""/>
          <p:cNvPicPr/>
          <p:nvPr/>
        </p:nvPicPr>
        <p:blipFill>
          <a:blip r:embed="rId2"/>
          <a:stretch/>
        </p:blipFill>
        <p:spPr>
          <a:xfrm>
            <a:off x="3462480" y="1517760"/>
            <a:ext cx="798480" cy="664920"/>
          </a:xfrm>
          <a:prstGeom prst="rect">
            <a:avLst/>
          </a:prstGeom>
          <a:ln w="0">
            <a:noFill/>
          </a:ln>
        </p:spPr>
      </p:pic>
      <p:pic>
        <p:nvPicPr>
          <p:cNvPr id="111" name="Retângulo 10" descr=""/>
          <p:cNvPicPr/>
          <p:nvPr/>
        </p:nvPicPr>
        <p:blipFill>
          <a:blip r:embed="rId3"/>
          <a:stretch/>
        </p:blipFill>
        <p:spPr>
          <a:xfrm>
            <a:off x="4973760" y="1517760"/>
            <a:ext cx="798480" cy="664920"/>
          </a:xfrm>
          <a:prstGeom prst="rect">
            <a:avLst/>
          </a:prstGeom>
          <a:ln w="0">
            <a:noFill/>
          </a:ln>
        </p:spPr>
      </p:pic>
      <p:pic>
        <p:nvPicPr>
          <p:cNvPr id="112" name="Retângulo 11" descr=""/>
          <p:cNvPicPr/>
          <p:nvPr/>
        </p:nvPicPr>
        <p:blipFill>
          <a:blip r:embed="rId4"/>
          <a:stretch/>
        </p:blipFill>
        <p:spPr>
          <a:xfrm>
            <a:off x="3029040" y="4041720"/>
            <a:ext cx="799920" cy="658800"/>
          </a:xfrm>
          <a:prstGeom prst="rect">
            <a:avLst/>
          </a:prstGeom>
          <a:ln w="0">
            <a:noFill/>
          </a:ln>
        </p:spPr>
      </p:pic>
      <p:pic>
        <p:nvPicPr>
          <p:cNvPr id="113" name="Retângulo 12" descr=""/>
          <p:cNvPicPr/>
          <p:nvPr/>
        </p:nvPicPr>
        <p:blipFill>
          <a:blip r:embed="rId5"/>
          <a:stretch/>
        </p:blipFill>
        <p:spPr>
          <a:xfrm>
            <a:off x="2176560" y="4181400"/>
            <a:ext cx="779400" cy="665280"/>
          </a:xfrm>
          <a:prstGeom prst="rect">
            <a:avLst/>
          </a:prstGeom>
          <a:ln w="0">
            <a:noFill/>
          </a:ln>
        </p:spPr>
      </p:pic>
      <p:pic>
        <p:nvPicPr>
          <p:cNvPr id="114" name="Retângulo 13" descr=""/>
          <p:cNvPicPr/>
          <p:nvPr/>
        </p:nvPicPr>
        <p:blipFill>
          <a:blip r:embed="rId6"/>
          <a:stretch/>
        </p:blipFill>
        <p:spPr>
          <a:xfrm>
            <a:off x="1395360" y="4041720"/>
            <a:ext cx="757440" cy="658800"/>
          </a:xfrm>
          <a:prstGeom prst="rect">
            <a:avLst/>
          </a:prstGeom>
          <a:ln w="0">
            <a:noFill/>
          </a:ln>
        </p:spPr>
      </p:pic>
      <p:pic>
        <p:nvPicPr>
          <p:cNvPr id="115" name="Retângulo 14" descr=""/>
          <p:cNvPicPr/>
          <p:nvPr/>
        </p:nvPicPr>
        <p:blipFill>
          <a:blip r:embed="rId7"/>
          <a:stretch/>
        </p:blipFill>
        <p:spPr>
          <a:xfrm>
            <a:off x="2730600" y="1590840"/>
            <a:ext cx="823680" cy="658800"/>
          </a:xfrm>
          <a:prstGeom prst="rect">
            <a:avLst/>
          </a:prstGeom>
          <a:ln w="0">
            <a:noFill/>
          </a:ln>
        </p:spPr>
      </p:pic>
      <p:pic>
        <p:nvPicPr>
          <p:cNvPr id="116" name="Retângulo 15" descr=""/>
          <p:cNvPicPr/>
          <p:nvPr/>
        </p:nvPicPr>
        <p:blipFill>
          <a:blip r:embed="rId8"/>
          <a:stretch/>
        </p:blipFill>
        <p:spPr>
          <a:xfrm>
            <a:off x="4761000" y="4108320"/>
            <a:ext cx="798480" cy="665280"/>
          </a:xfrm>
          <a:prstGeom prst="rect">
            <a:avLst/>
          </a:prstGeom>
          <a:ln w="0">
            <a:noFill/>
          </a:ln>
        </p:spPr>
      </p:pic>
      <p:pic>
        <p:nvPicPr>
          <p:cNvPr id="117" name="Retângulo 16" descr=""/>
          <p:cNvPicPr/>
          <p:nvPr/>
        </p:nvPicPr>
        <p:blipFill>
          <a:blip r:embed="rId9"/>
          <a:stretch/>
        </p:blipFill>
        <p:spPr>
          <a:xfrm>
            <a:off x="5705640" y="1517760"/>
            <a:ext cx="634680" cy="66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216000" y="301680"/>
            <a:ext cx="96487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atriz Swo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079640" y="1403280"/>
          <a:ext cx="7921440" cy="4969080"/>
        </p:xfrm>
        <a:graphic>
          <a:graphicData uri="http://schemas.openxmlformats.org/drawingml/2006/table">
            <a:tbl>
              <a:tblPr/>
              <a:tblGrid>
                <a:gridCol w="3960720"/>
                <a:gridCol w="3960720"/>
              </a:tblGrid>
              <a:tr h="248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Forças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ca conheci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ta percepção de qualida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hecimento do mercado naci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presa reconhecidamente ét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Oportunida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mento do poder de compra da popula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ior preocupação ética dos consumido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48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Fraquez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pção de marca de pouca sofistica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meaç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ada de marcas internacionais no mercado brasilei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dência de “</a:t>
                      </a: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miumrização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 no mercad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atriz importância X desempenh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079640" y="1403280"/>
          <a:ext cx="8353440" cy="4896000"/>
        </p:xfrm>
        <a:graphic>
          <a:graphicData uri="http://schemas.openxmlformats.org/drawingml/2006/table">
            <a:tbl>
              <a:tblPr/>
              <a:tblGrid>
                <a:gridCol w="2784240"/>
                <a:gridCol w="2784600"/>
                <a:gridCol w="2784600"/>
              </a:tblGrid>
              <a:tr h="163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ova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63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da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63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onibilidade do produ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124" name="CaixaDeTexto 4"/>
          <p:cNvSpPr/>
          <p:nvPr/>
        </p:nvSpPr>
        <p:spPr>
          <a:xfrm>
            <a:off x="1079640" y="63072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aix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édi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mportâ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CaixaDeTexto 5"/>
          <p:cNvSpPr/>
          <p:nvPr/>
        </p:nvSpPr>
        <p:spPr>
          <a:xfrm rot="16200000">
            <a:off x="-2193120" y="367416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empen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io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gual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lh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GAPs dos process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CaixaDeTexto 3"/>
          <p:cNvSpPr/>
          <p:nvPr/>
        </p:nvSpPr>
        <p:spPr>
          <a:xfrm>
            <a:off x="360360" y="1763640"/>
            <a:ext cx="9360000" cy="27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O principal GAP no processo é a disponibilidade do produto. O principal canal de vendas e o próprio modelo de negócio da Natura (venda direta) está desgastad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A maneira de disponibilizar os produtos para os clientes de maneira mais rápida é o principal desafio para a empresa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12" descr=""/>
          <p:cNvPicPr/>
          <p:nvPr/>
        </p:nvPicPr>
        <p:blipFill>
          <a:blip r:embed="rId1"/>
          <a:stretch/>
        </p:blipFill>
        <p:spPr>
          <a:xfrm>
            <a:off x="1655640" y="4356000"/>
            <a:ext cx="1866960" cy="2286000"/>
          </a:xfrm>
          <a:prstGeom prst="rect">
            <a:avLst/>
          </a:prstGeom>
          <a:ln w="0">
            <a:noFill/>
          </a:ln>
        </p:spPr>
      </p:pic>
      <p:sp>
        <p:nvSpPr>
          <p:cNvPr id="131" name="CaixaDeTexto 9"/>
          <p:cNvSpPr/>
          <p:nvPr/>
        </p:nvSpPr>
        <p:spPr>
          <a:xfrm>
            <a:off x="3887640" y="4716360"/>
            <a:ext cx="230508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75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4" descr="http://leotubarao.com.br/wp-content/uploads/2012/07/e-commerc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61080" y="3995640"/>
            <a:ext cx="3305160" cy="32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udança nos fatores-cha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CaixaDeTexto 3"/>
          <p:cNvSpPr/>
          <p:nvPr/>
        </p:nvSpPr>
        <p:spPr>
          <a:xfrm>
            <a:off x="360360" y="1979640"/>
            <a:ext cx="8496360" cy="51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300" spc="-1" strike="noStrike">
                <a:solidFill>
                  <a:srgbClr val="3333cc"/>
                </a:solidFill>
                <a:latin typeface="Arial"/>
              </a:rPr>
              <a:t>Disponibilidade de produto- 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Com 1,2 milhão de consultoras no Brasil e um total de 1,5 milhão de consultoras no mundo, a Natura mantém uma loja em parceria com o portal Submarino.  A página tem uma área onde o internauta pode encontrar uma consultora. Mas quem prefere fazer o pedido e receber em casa, tem essa opção. Chegar até a loja, no entanto, não é tão fácil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O link na página oficial da Natura, por exemplo, direciona o internauta para uma página inexistente. A Natura confirma que não promove a loja online e diz que seu projeto de e-commerce seria a </a:t>
            </a: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Rede Natura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, que está mais para uma rede social, onde o pedido também é efetuado por meio das consultoras da marca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Nova Estratég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1" descr=""/>
          <p:cNvPicPr/>
          <p:nvPr/>
        </p:nvPicPr>
        <p:blipFill>
          <a:blip r:embed="rId1"/>
          <a:stretch/>
        </p:blipFill>
        <p:spPr>
          <a:xfrm>
            <a:off x="0" y="1547640"/>
            <a:ext cx="10080720" cy="541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Vantagens competitiv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CaixaDeTexto 3"/>
          <p:cNvSpPr/>
          <p:nvPr/>
        </p:nvSpPr>
        <p:spPr>
          <a:xfrm>
            <a:off x="719280" y="1692360"/>
            <a:ext cx="4681440" cy="53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000" spc="-1" strike="noStrike">
                <a:solidFill>
                  <a:srgbClr val="191966"/>
                </a:solidFill>
                <a:latin typeface="Arial"/>
              </a:rPr>
              <a:t>Aumento das vend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000" spc="-1" strike="noStrike">
                <a:solidFill>
                  <a:srgbClr val="191966"/>
                </a:solidFill>
                <a:latin typeface="Arial"/>
              </a:rPr>
              <a:t>Maior alcance de client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000" spc="-1" strike="noStrike">
                <a:solidFill>
                  <a:srgbClr val="191966"/>
                </a:solidFill>
                <a:latin typeface="Arial"/>
              </a:rPr>
              <a:t>Possibilidade de ampliação do publico alvo para outros segmentos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2" descr="http://4.bp.blogspot.com/-62aMZieC1xs/UZ0lojigq0I/AAAAAAAACJc/JmDkUPVPlQ0/s1600/grafic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96000" y="1619280"/>
            <a:ext cx="4868640" cy="48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403280"/>
            <a:ext cx="10080720" cy="5761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Gestão, tecnologia e pesso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tângulo 3"/>
          <p:cNvSpPr/>
          <p:nvPr/>
        </p:nvSpPr>
        <p:spPr>
          <a:xfrm>
            <a:off x="216000" y="1403280"/>
            <a:ext cx="95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191966"/>
                </a:solidFill>
                <a:latin typeface="Arial"/>
              </a:rPr>
              <a:t>http://exame.abril.com.br/negocios/noticias/natura-destaca-investimento-em-ti-e-crescimento-em-balan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tângulo 4"/>
          <p:cNvSpPr/>
          <p:nvPr/>
        </p:nvSpPr>
        <p:spPr>
          <a:xfrm>
            <a:off x="287280" y="2050920"/>
            <a:ext cx="91458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200" spc="-1" strike="noStrike">
                <a:solidFill>
                  <a:srgbClr val="191966"/>
                </a:solidFill>
                <a:latin typeface="Arial"/>
              </a:rPr>
              <a:t>A empresa está entusiasmada com os resultados da Rede Natura, ramo de comércio eletrônico da marc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200" spc="-1" strike="noStrike">
                <a:solidFill>
                  <a:srgbClr val="191966"/>
                </a:solidFill>
                <a:latin typeface="Arial"/>
              </a:rPr>
              <a:t>O site apresenta uma nova forma de se relacionar com a Natura e comprar com os consultores, já que cada um deles possui seu próprio "Espaço Natura" na interne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200" spc="-1" strike="noStrike">
                <a:solidFill>
                  <a:srgbClr val="191966"/>
                </a:solidFill>
                <a:latin typeface="Arial"/>
              </a:rPr>
              <a:t>Hoje 35% das entregas online são atualmente feitas em até 48 horas, e o plano é expandir esse número para até 60 a 70% dos pedidos. Atende Campinas e São José dos Campo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200" spc="-1" strike="noStrike">
                <a:solidFill>
                  <a:srgbClr val="191966"/>
                </a:solidFill>
                <a:latin typeface="Arial"/>
              </a:rPr>
              <a:t>Além do investimento em TI, a empresa espera no médio-prazo ter não só a marca Natura, mas desenvolver outros projetos que se correlacionem. A rede pretende também ir além do ramo dos cosmético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ercado cosmético no Mund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relação ao mercado mundial de HPPC (Higiene Pessoal, Perfumaria e Cosméticos) os dados da Euromonitor de 2012, os três principais países sã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ados Unidos  com 15,9% do mercado mundia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Japão o segundo, com 10,9% do mercado mundia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rasil com com 9,6% do mercado mundia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2013 este setor cresceu mundialmente 1,4%, sendo que quatro dos dez maiores mercados França, Rússia, Itália e Alemanha) registraram queda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Resultados esperad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tângulo 3"/>
          <p:cNvSpPr/>
          <p:nvPr/>
        </p:nvSpPr>
        <p:spPr>
          <a:xfrm>
            <a:off x="503280" y="4427640"/>
            <a:ext cx="9217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500" spc="-1" strike="noStrike">
                <a:solidFill>
                  <a:srgbClr val="191966"/>
                </a:solidFill>
                <a:latin typeface="Arial"/>
              </a:rPr>
              <a:t>Ainda dentro das expectativas para 2014, há o plano de retomar as lojas-conceito, como a da rua Oscar Freire, como exposição da marca e não para negócios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500" spc="-1" strike="noStrike">
                <a:solidFill>
                  <a:srgbClr val="191966"/>
                </a:solidFill>
                <a:latin typeface="Arial"/>
              </a:rPr>
              <a:t>Falando de preços, o executivo afirmou que o reajuste será de 5%, sem previsão ainda de que existam outros. A Natura estima investimentos de 500 milhões de reais nesse ano (2014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1" descr=""/>
          <p:cNvPicPr/>
          <p:nvPr/>
        </p:nvPicPr>
        <p:blipFill>
          <a:blip r:embed="rId1"/>
          <a:stretch/>
        </p:blipFill>
        <p:spPr>
          <a:xfrm>
            <a:off x="3311640" y="1763640"/>
            <a:ext cx="2808000" cy="25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503280" y="301680"/>
            <a:ext cx="906768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Referência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503280" y="1768320"/>
            <a:ext cx="9067680" cy="74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kantarworldpanel.com/br/Releases/news-articles/Olho-no-porta-a-port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ibope.com.br/pt-br/noticias/Paginas/Cresce-o-consumo-de-maquiagem-entre-as-brasileiras.aspx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exame.abril.com.br/negocios/noticias/m-a-c-quer-dobrar-de-tamanho-no-brasil-em-tres-ano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www.cosmeticanews.com.br/leitura.php?n=atualidade-cosmetica-promove-evento-sobre-o-mercado-de-maquiagem-no-brasil&amp;id=4650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http://www1.folha.uol.com.br/mercado/2013/05/1280706-sob-ataque-de-rivais-natura-sinaliza-mudancas.shtm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http://www.cosmeticosbr.com.br/conteudo/materias/materia.asp?id=3298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atura é campeã em construção de marca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ttp://exame.abril.com.br/marketing/noticias/natura-e-campea-em-construcao-de-marca-veja-lista#2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Natura é a empresa com melhor estratégia de construção de </a:t>
            </a:r>
            <a:r>
              <a:rPr b="0" lang="pt-BR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marca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branding), de acordo com pesquisa do Centro de Inteligência Padrão (CIP), consultoria que faz levantamentos ligados ao mercado do </a:t>
            </a:r>
            <a:r>
              <a:rPr b="0" lang="pt-BR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consum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levantamento leva em consideração o quanto conhecida é a marca ou empresa e qual a sua </a:t>
            </a:r>
            <a:r>
              <a:rPr b="0" lang="pt-BR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imagem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considerando os quesitos: amor, preferência dos jovens, reputação e respeito. A consultoria escolheu 15 diferentes setores e considerou empresas brasileiras e internacionais para cada 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tor: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sméticos, higiene pessoal e perfumaria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brasileira não apenas liderou no setor de beleza e higiene como teve melhor desempenho geral, de acordo com a consultoria. Eleita como a marca mais valiosa do varejo brasileiro em 2013 pela Interbrand, a Natura investiu nas ideias de sustentabilidade e brasilidade para reforçar sua imagem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http://exame.abril.com.br/negocios/noticias/natura-destaca-investimento-em-ti-e-crescimento-em-balanco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-commerc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| 12/02/2014 20:37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atura vai expandir site, mas manterá crença porta a port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 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sit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apresenta uma nova forma de se relacionar com a Natura e comprar com os consultores, já que cada um deles possui seu próprio "Espaço Natura" na inter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marca continuará seguindo suas raízes de integração entre consultor e cliente, já que a Rede Natura seria uma maneira de integrar o consumidor diretamente no processo de escolha e comp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5% das entregas online são atualmente feitas em até 48 horas, e o plano é expandir esse número para até 60 a 70% dos ped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capacidade logística da Natura poderia elevar o número até 90%, mas, essa meta não valeria a pena considerando-se custos envolv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http://epocanegocios.globo.com/busca/?q=O%20DILEMA%20DO%20E-COMMERCE%20PARA%20NATURA,%20AVON%20E%20O%20BOTIC%C3%81RIO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0/08/2013 - POR DANIELA ALMEIDA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 DILEMA DO E-COMMERCE PARA NATURA, AVON E O BOTICÁRIO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estratégia de negócios de O Boticário é sempre em parceria com os nossos franqueados", afirmou Osvaldo Moscon, diretor de Desenvolvimento de Canais e Franchising de O Boticário por meio de email. "Por isso, todas as iniciativas são concretizadas em conjunto com eles, por exemplo, o e-commerce. A presença no comércio online vem da necessidade de estarmos presentes em vários canais e cada vez mais perto do consumidor. E, justamente por isso, o formato de vendas virtual não anula os outros, mas complementa. Afinal, muitos consumidores entram online para conhecer produtos, buscar informações e compram em lojas físicas. Além disso, o diferencial entre os modelos está na experiência - enquanto o e-commerce oferece a praticidade, fácil acesso e outras vantagens no que diz respeito ao consumo, já a vivência e experimentação dos produtos na loja é insubstituível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setor de franquias, modelo de negócios de O Boticário, vem crescendo em ritmo intenso e encerrou 2012 com aumento de 16,2% no faturamento. Ao todo, as redes movimentaram R$ 103,3 bilhões, frente aos mais de R$ 88,8 bilhões de 2011. Já a venda direta, modelo adotado por outras duas gigantes, Avon e Natura, fechou 2011 com um volume de R$ 27,2 bilhões, segundo a Associação Brasileira de Empresas de Vendas Diretas (ABEVD). Em 2010 foram R$ 25,8 bilhões (os dados de 2012 ainda não foram divulgados)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venda direta representa um desafio para Avon e Natura, que têm em suas representantes e consultoras a base de seu negócio – e não trabalham com franquias. O e-commerce poderia ser uma saída, não representasse um risco ao principal canal de vendas das companh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Avon, que tem no Brasil uma das suas principais operações em faturamento, mantém um 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site que funciona como folheto onlin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no qual é possível criar uma lista e enviar para uma revendedora de preferência, ou encontrar por meio de uma ferramenta com CEP, a representante mais próxima. Comprar e receber em casa, como um bom e tradicional site de e-commerce, não é possível. A empresa lançou, ainda, em outubro do ano passado, um aplicativo para iPad que é, na verdade, um catálogo. Assim como a página da empresa na internet, é possível colocar produtos em uma cesta, mas o pedido final é encaminhado a uma revendedora Avon.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 comunicado oficial enviado à 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Época NEGÓCI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a empresa afirmou acreditar “que o relacionamento é o principal elo do negócio da venda direta, por isso o e-commerce deve sempre estar associado ao trabalho das revendedoras”. Para bom entendedor, e-commerce sem revendedora, n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 1,2 milhão de consultoras no Brasil e um total de 1,5 milhão de consultoras no mundo, a Natura mantém uma 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loja em parceria com o portal Submarin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 A página tem uma área onde o internauta pode encontrar uma consultora. Mas quem prefere fazer o pedido e receber em casa, tem essa opção. Chegar até a loja, no entanto, não é tão fácil. O link na página oficial da Natura, por exemplo, direciona o internauta para uma página inexistente. A Natura confirma que não promove a loja online e diz que seu projeto de e-commerce seria a 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Rede Natu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que está mais para uma rede social, onde o pedido também é efetuado por meio das consultoras da marca.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“Vislumbramos um futuro no qual a relação entre consultoras e consumidores será ainda mais estreita e apoiada por alta tecnologia de informação e pelas redes sociais”, afirmou a Natura, por meio de um comunic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smétic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| 27/01/2014 16:10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.A.C quer dobrar de tamanho no Brasil em três anos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ttp://exame.abril.com.br/negocios/noticias/m-a-c-quer-dobrar-de-tamanho-no-brasil-em-tres-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M.A.C vai inaugurar seu serviço de 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e-commerc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no Brasil. A jogada é uma das estratégias adotadas pela grife de 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maquiagen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para dobrar seus negócios no Brasil em três an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lém de investir na internet, a marca da gigante de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cosmétic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da Estée Lauder pretende, até 2016, dobrar o número de lojas físicas no país, que hoje estão perto de 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É a primeira vez na história da marca que baixamos os preços, o que mostra como o Brasil é importante para nós"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6912000" y="3887640"/>
            <a:ext cx="3168720" cy="3672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ercado cosmético no Bras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503280" y="1698480"/>
            <a:ext cx="907092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Brasil representa 9,6% do mercado de cosméticos no mundo, sendo que a divisão das categorias mais representativas sã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primeiro: perfumaria e desodorantes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segundo:  produtos para cabelos, produtos para higiene oral, produtos para os públicos masculino e infantil e proteção solar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terceiro: maquiagem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quarto: depilatórios e produtos para a pele (ABIHPEC, 2012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792000" y="4032360"/>
            <a:ext cx="6048360" cy="34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visão do presidente da Abihpec, João Carlos Basilio, é sobre o crescimento consecutivo deste setor acima dos dois dígitos nos últimos 17 anos: “Entre eles, o aumento da expectativa de vida, a expansão da classe C, a modernização das fábricas e os ganhos de tecnologia e consequente produtividade”. Basílio também ressaltou a importância dos investimentos da indústria em inovação e P&amp;D: “Foram R$13,6 bilhões em Ativos, Pesquisa e Desenvolvimento e Fortalecimento de Marcas, um total 18% maior que em 2011. Em quatro anos dobramos os investimentos de R$6,6 milhões a R$13.6 milhões. São investimentos fortes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5759280" y="1440000"/>
            <a:ext cx="4319640" cy="59036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ercado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16000" y="2554200"/>
            <a:ext cx="4680000" cy="35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gundo dados do Target Group Index (IBOPE Media) o consumo de maquiagem no Brasil tem aumentado em todas as classes socioeconômicas, principais capitais e regiões metropolitanas do paí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 acordo com a consultoria Euromonitor, a categoria movimentou no Brasil US$ 2.6 bilhões em 2012, posicionando o País como o terceiro maior do mund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ercado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5904000" y="1368360"/>
            <a:ext cx="3889440" cy="60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gundo pesquisas da Kanthar World Panel, as mulheres brasileiras estão se maquiando com mais frequência e demandando produtos de maior qualidade. Além disso, apenas metade destas mulheres usam maquiag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ante destes dados é possível entender o grande investimento das empresas nacionais em novas linhas e na renovação das linhas antigas, bem como a grande movimentação de marcas internacionai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57240" y="2087640"/>
            <a:ext cx="577512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ercado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792000" y="2081160"/>
            <a:ext cx="6480360" cy="20941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71280" y="1258920"/>
            <a:ext cx="9504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mundo a maquiagem é a terceira categoria em crescimento de vendas no período de 2001 a 2006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44360" y="4282920"/>
            <a:ext cx="9504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Brasil, o mercado de maquiagem apresenta grande crescimento, mas ainda  perde para outros produtos como tratamento para cabelos e pe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936720" y="5111640"/>
            <a:ext cx="7199280" cy="23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Natu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577800" y="165564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dústria cosmética nacional fundada em 1969 por Luiz Seabra como a Indústria e Comércio de Cosméticos Berjeaout Ltda em sociedade com Jean Pierre Berjeaout, que viria a se chamar Natura em poucos meses, devido à participação de ativos vegetais na composição dos produ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m 2009, ao completar 40 anos, atingiu a marca histórica d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1 milhão de consultoras e consultor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Hoje conta com mais de 20 marcas, entre produtos para cabelo, pele, maquiagem, perfumaria dentre outros.</a:t>
            </a:r>
            <a:br>
              <a:rPr sz="2000"/>
            </a:br>
            <a:br>
              <a:rPr sz="12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920880" y="4214880"/>
            <a:ext cx="8080200" cy="32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Natura  - mercado de cosmétic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atratividade do crescimento deste mercado faz com que sempre haja novos entrantes, nacionais e internacionais, em todos os canais de venda – varejo, franquia e vendas diret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o entanto, mesmo com todo dinamismo apenas 6 empresas detém 52% do mercado tot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2232000" y="3527280"/>
            <a:ext cx="468000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Natura  - linha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16000" y="1827360"/>
            <a:ext cx="9431280" cy="4795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7T18:38:33Z</dcterms:created>
  <dc:creator>Daniela Santos Ferreira</dc:creator>
  <dc:description/>
  <dc:language>en-US</dc:language>
  <cp:lastModifiedBy>Ubiara</cp:lastModifiedBy>
  <dcterms:modified xsi:type="dcterms:W3CDTF">2014-04-02T02:00:19Z</dcterms:modified>
  <cp:revision>41</cp:revision>
  <dc:subject/>
  <dc:title>Natura – linha de maquiagem</dc:title>
</cp:coreProperties>
</file>