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EA3FD-A23E-47D0-8CFE-FB042426D0A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48B15-B085-48A1-A863-88F6B0D719F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78FCC-230A-4AAC-868E-F694D3BEC8C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370F6-D2A2-4BF4-A143-967E5CC153C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4D1BE-425A-43DD-A6AB-1738390CBF0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DB5FA-CC13-4D48-B30E-366B479B54C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D86A-D542-4707-984B-CD72C94AEF1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35CF7-A325-4075-B9BD-7D7F026CF54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1F4EA-F505-4905-995E-1A641B5CA28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953E9-EC76-426F-BA40-022213D64EA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F0D2A-1926-4AFE-B065-57A70BD8A4F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01C2E-17BB-4191-BFA6-D5B6A904E70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F322A-63CA-4AF7-A5DD-AC67148C449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8B141-98FB-4205-9782-F7A62E96ABC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9485D-2D1F-4073-AFE5-75A5DA83F93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E8363-5F4E-42C6-BD70-07C2A21C117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65EE6-CC6A-4B71-81E0-E3C26161D65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5FE8F-B1FA-4830-86C4-D7B214B76E3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F5C8C-C234-4702-89AF-427B90018F0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A8D75-E64E-4496-9175-F7213AC23E0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39949-A1EC-404C-A649-DB7E27B761D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31CA5-732A-4589-BBF7-2A91D6E253D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ECBC7-E427-40F9-B88D-AD3AEE65518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9C644-292E-4A3D-ABE4-41409413726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37B17-5103-4A0B-BD73-3987C441925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4E352-F32C-4815-8513-819EF0F6302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C482F-9CEB-417F-AB53-37D1AFDC26D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683D3-90CF-4188-9DE5-454B3E39EC8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D658D-35DF-4E95-959B-81E27E68F37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F5B3B-F8B4-499C-8D13-ABBB7152C54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79704-E244-4EF4-8729-AB216E1FACE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4A5E4-C894-40BA-BCB6-8E8616029F4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87A66-1E55-495F-8FF2-D8AB2AB0A39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AA0BE-DC90-4C7B-BD42-05103AD816B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E8C0B-713B-4F89-A668-B693A1F15E5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A5D48-5C20-4601-BFBD-F770932508D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98A50-7562-4E32-917F-2A429C5C88A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53BE6-3605-4957-912F-C2080877621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44D8C-CCD0-40F3-9457-5EA68BE1BC3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74374-AEB9-475F-BA5F-B9CCC07E2E3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98709-7597-467D-A8DB-6F023CCCE26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3FA0A-B0E3-4383-A8E8-AC899099BE1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842A-613F-46BD-8050-0377C9521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5A38-C92D-4A8C-9C6C-451815493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17FD-D8E4-4CC5-BA38-BD2080EB5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B1E7-1B89-4FC6-8DA4-6E1154153B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9D75-DCCF-4BCD-A6A4-E515EAD7E4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E74E-ED39-4E10-8987-03C82FCF0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4CB6-EB96-40AA-BB06-436FADED0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70E8-9477-40F2-A6E1-AEAB8E5E0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EF80-08C2-4129-978D-DDC799255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D49E-2211-402D-A37D-676C53115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2EA0-28BE-462B-9143-0BEDCAECB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675B-A224-492B-8E9F-3C65CC8DD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4EBD9A-7000-4D75-99D6-833FABE49470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3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4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om.br/url?sa=i&amp;rct=j&amp;q=&amp;esrc=s&amp;source=images&amp;cd=&amp;cad=rja&amp;uact=8&amp;docid=X5y_KKJR5IenYM&amp;tbnid=-0e_MSYy4wqATM:&amp;ved=0CAUQjRw&amp;url=http%3A%2F%2Fwww.leotubarao.com.br%2Ftag%2Fe-commerce%2F&amp;ei=_Wg7U5yoAqP30gH47YDoCA&amp;bvm=bv.63934634,d.dmQ&amp;psig=AFQjCNH1oUePgvb6z6OlA4dDvOqASPNDYw&amp;ust=1396488822015251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br/url?sa=i&amp;rct=j&amp;q=&amp;esrc=s&amp;source=images&amp;cd=&amp;cad=rja&amp;uact=8&amp;docid=hDlcQ3Sq35pySM&amp;tbnid=L_ANeLK-unkrTM:&amp;ved=0CAUQjRw&amp;url=http%3A%2F%2Fwww.baresbh.com%2F2013_05_01_archive.html&amp;ei=gXE4U_bvAor40gHOr4FA&amp;bvm=bv.63808443,d.dmQ&amp;psig=AFQjCNHNcyvtRanPyVqguxWXINzyIBX8Ig&amp;ust=1396294388205164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hyperlink" Target="http://www.exame.com.br/topicos/image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o de ca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ixaDeTexto 4"/>
          <p:cNvSpPr/>
          <p:nvPr/>
        </p:nvSpPr>
        <p:spPr>
          <a:xfrm>
            <a:off x="287280" y="1692360"/>
            <a:ext cx="97934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 venda direta representa um desafio para empresas do setor, que têm em suas representantes e consultoras a base de seu negócio – e não trabalham com franquia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 e-commerce poderia ser uma saída, não representasse um risco ao principal canal de vendas das companhia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1944720" y="2987640"/>
            <a:ext cx="5746680" cy="2706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mbiente futu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2">
            <a:hlinkClick r:id="rId2"/>
          </p:cNvPr>
          <p:cNvSpPr/>
          <p:nvPr/>
        </p:nvSpPr>
        <p:spPr>
          <a:xfrm>
            <a:off x="58680" y="-179064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4">
            <a:hlinkClick r:id="rId3"/>
          </p:cNvPr>
          <p:cNvSpPr/>
          <p:nvPr/>
        </p:nvSpPr>
        <p:spPr>
          <a:xfrm>
            <a:off x="0" y="-219708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6">
            <a:hlinkClick r:id="rId4"/>
          </p:cNvPr>
          <p:cNvSpPr/>
          <p:nvPr/>
        </p:nvSpPr>
        <p:spPr>
          <a:xfrm>
            <a:off x="287280" y="179280"/>
            <a:ext cx="792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acto X Grau de incerte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92000" y="1403280"/>
          <a:ext cx="6985080" cy="446580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22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23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06" name="CaixaDeTexto 4"/>
          <p:cNvSpPr/>
          <p:nvPr/>
        </p:nvSpPr>
        <p:spPr>
          <a:xfrm>
            <a:off x="1079640" y="62690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au de incert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CaixaDeTexto 6"/>
          <p:cNvSpPr/>
          <p:nvPr/>
        </p:nvSpPr>
        <p:spPr>
          <a:xfrm>
            <a:off x="7920000" y="1835280"/>
            <a:ext cx="21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– Client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– Concorr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 – Econô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 – Tecnoló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–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– Polí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 – Juríd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 – Fí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– Disponibilidade do prod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Retângulo 7" descr=""/>
          <p:cNvPicPr/>
          <p:nvPr/>
        </p:nvPicPr>
        <p:blipFill>
          <a:blip r:embed="rId1"/>
          <a:stretch/>
        </p:blipFill>
        <p:spPr>
          <a:xfrm>
            <a:off x="4254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0" name="Retângulo 9" descr=""/>
          <p:cNvPicPr/>
          <p:nvPr/>
        </p:nvPicPr>
        <p:blipFill>
          <a:blip r:embed="rId2"/>
          <a:stretch/>
        </p:blipFill>
        <p:spPr>
          <a:xfrm>
            <a:off x="3462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1" name="Retângulo 10" descr=""/>
          <p:cNvPicPr/>
          <p:nvPr/>
        </p:nvPicPr>
        <p:blipFill>
          <a:blip r:embed="rId3"/>
          <a:stretch/>
        </p:blipFill>
        <p:spPr>
          <a:xfrm>
            <a:off x="497376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2" name="Retângulo 11" descr=""/>
          <p:cNvPicPr/>
          <p:nvPr/>
        </p:nvPicPr>
        <p:blipFill>
          <a:blip r:embed="rId4"/>
          <a:stretch/>
        </p:blipFill>
        <p:spPr>
          <a:xfrm>
            <a:off x="3029040" y="4041720"/>
            <a:ext cx="799920" cy="658800"/>
          </a:xfrm>
          <a:prstGeom prst="rect">
            <a:avLst/>
          </a:prstGeom>
          <a:ln w="0">
            <a:noFill/>
          </a:ln>
        </p:spPr>
      </p:pic>
      <p:pic>
        <p:nvPicPr>
          <p:cNvPr id="113" name="Retângulo 12" descr=""/>
          <p:cNvPicPr/>
          <p:nvPr/>
        </p:nvPicPr>
        <p:blipFill>
          <a:blip r:embed="rId5"/>
          <a:stretch/>
        </p:blipFill>
        <p:spPr>
          <a:xfrm>
            <a:off x="2176560" y="4181400"/>
            <a:ext cx="779400" cy="665280"/>
          </a:xfrm>
          <a:prstGeom prst="rect">
            <a:avLst/>
          </a:prstGeom>
          <a:ln w="0">
            <a:noFill/>
          </a:ln>
        </p:spPr>
      </p:pic>
      <p:pic>
        <p:nvPicPr>
          <p:cNvPr id="114" name="Retângulo 13" descr=""/>
          <p:cNvPicPr/>
          <p:nvPr/>
        </p:nvPicPr>
        <p:blipFill>
          <a:blip r:embed="rId6"/>
          <a:stretch/>
        </p:blipFill>
        <p:spPr>
          <a:xfrm>
            <a:off x="1395360" y="4041720"/>
            <a:ext cx="757440" cy="658800"/>
          </a:xfrm>
          <a:prstGeom prst="rect">
            <a:avLst/>
          </a:prstGeom>
          <a:ln w="0">
            <a:noFill/>
          </a:ln>
        </p:spPr>
      </p:pic>
      <p:pic>
        <p:nvPicPr>
          <p:cNvPr id="115" name="Retângulo 14" descr=""/>
          <p:cNvPicPr/>
          <p:nvPr/>
        </p:nvPicPr>
        <p:blipFill>
          <a:blip r:embed="rId7"/>
          <a:stretch/>
        </p:blipFill>
        <p:spPr>
          <a:xfrm>
            <a:off x="2730600" y="1590840"/>
            <a:ext cx="823680" cy="658800"/>
          </a:xfrm>
          <a:prstGeom prst="rect">
            <a:avLst/>
          </a:prstGeom>
          <a:ln w="0">
            <a:noFill/>
          </a:ln>
        </p:spPr>
      </p:pic>
      <p:pic>
        <p:nvPicPr>
          <p:cNvPr id="116" name="Retângulo 15" descr=""/>
          <p:cNvPicPr/>
          <p:nvPr/>
        </p:nvPicPr>
        <p:blipFill>
          <a:blip r:embed="rId8"/>
          <a:stretch/>
        </p:blipFill>
        <p:spPr>
          <a:xfrm>
            <a:off x="4761000" y="4108320"/>
            <a:ext cx="798480" cy="665280"/>
          </a:xfrm>
          <a:prstGeom prst="rect">
            <a:avLst/>
          </a:prstGeom>
          <a:ln w="0">
            <a:noFill/>
          </a:ln>
        </p:spPr>
      </p:pic>
      <p:pic>
        <p:nvPicPr>
          <p:cNvPr id="117" name="Retângulo 16" descr=""/>
          <p:cNvPicPr/>
          <p:nvPr/>
        </p:nvPicPr>
        <p:blipFill>
          <a:blip r:embed="rId9"/>
          <a:stretch/>
        </p:blipFill>
        <p:spPr>
          <a:xfrm>
            <a:off x="5705640" y="1517760"/>
            <a:ext cx="63468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Sw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79640" y="1403280"/>
          <a:ext cx="7921440" cy="496908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24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orç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a conhec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a percepção de 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hecimento do mercado n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resa reconhecidamente é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portun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mento do poder de compra da popul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or preocupação ética dos consumid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4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aquez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ção de marca de pouca sofistic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meaç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da de marcas internacionais no mercado brasil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ência de “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r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 no merca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ortância X desempe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79640" y="1403280"/>
          <a:ext cx="8353440" cy="4896000"/>
        </p:xfrm>
        <a:graphic>
          <a:graphicData uri="http://schemas.openxmlformats.org/drawingml/2006/table">
            <a:tbl>
              <a:tblPr/>
              <a:tblGrid>
                <a:gridCol w="2784240"/>
                <a:gridCol w="2784600"/>
                <a:gridCol w="2784600"/>
              </a:tblGrid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6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e do prod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24" name="CaixaDeTexto 4"/>
          <p:cNvSpPr/>
          <p:nvPr/>
        </p:nvSpPr>
        <p:spPr>
          <a:xfrm>
            <a:off x="1079640" y="6307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ix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rtâ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mpen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gu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APs dos proces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aixaDeTexto 3"/>
          <p:cNvSpPr/>
          <p:nvPr/>
        </p:nvSpPr>
        <p:spPr>
          <a:xfrm>
            <a:off x="360360" y="1763640"/>
            <a:ext cx="93600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principal GAP no processo é a disponibilidade do produto. O principal canal de vendas e o próprio modelo de negócio da Natura (venda direta) está desga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maneira de disponibilizar os produtos para os clientes de maneira mais rápida é o principal desafio para a empres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1"/>
          <a:stretch/>
        </p:blipFill>
        <p:spPr>
          <a:xfrm>
            <a:off x="1655640" y="4356000"/>
            <a:ext cx="186696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9"/>
          <p:cNvSpPr/>
          <p:nvPr/>
        </p:nvSpPr>
        <p:spPr>
          <a:xfrm>
            <a:off x="3887640" y="4716360"/>
            <a:ext cx="2305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75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4" descr="http://leotubarao.com.br/wp-content/uploads/2012/07/e-commerc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61080" y="3995640"/>
            <a:ext cx="33051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udança nos fatores-c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CaixaDeTexto 3"/>
          <p:cNvSpPr/>
          <p:nvPr/>
        </p:nvSpPr>
        <p:spPr>
          <a:xfrm>
            <a:off x="360360" y="1979640"/>
            <a:ext cx="8496360" cy="51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300" spc="-1" strike="noStrike">
                <a:solidFill>
                  <a:srgbClr val="3333cc"/>
                </a:solidFill>
                <a:latin typeface="Arial"/>
              </a:rPr>
              <a:t>Disponibilidade de produto-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 loja em parceria com o portal Submarino.  A página tem uma área onde o internauta pode encontrar uma consultora. Mas quem prefere fazer o pedido e receber em casa, tem essa opção. Chegar até a loja, no entanto, não é tão fácil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link na página oficial da Natura, por exemplo, direciona o internauta para uma página inexistente. A Natura confirma que não promove a loja online e diz que seu projeto de e-commerce seria a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ova Estraté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1547640"/>
            <a:ext cx="10080720" cy="54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Vantagens competitiv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aixaDeTexto 3"/>
          <p:cNvSpPr/>
          <p:nvPr/>
        </p:nvSpPr>
        <p:spPr>
          <a:xfrm>
            <a:off x="719280" y="1692360"/>
            <a:ext cx="468144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Aumento das vend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Maior alcance de cli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Possibilidade de ampliação do publico alvo para outros segmento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http://4.bp.blogspot.com/-62aMZieC1xs/UZ0lojigq0I/AAAAAAAACJc/JmDkUPVPlQ0/s1600/grafic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1619280"/>
            <a:ext cx="486864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03280"/>
            <a:ext cx="10080720" cy="576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, tecnologia e pesso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tângulo 3"/>
          <p:cNvSpPr/>
          <p:nvPr/>
        </p:nvSpPr>
        <p:spPr>
          <a:xfrm>
            <a:off x="216000" y="140328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http://exame.abril.com.br/negocios/noticias/natura-destaca-investimento-em-ti-e-crescimento-em-ba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tângulo 4"/>
          <p:cNvSpPr/>
          <p:nvPr/>
        </p:nvSpPr>
        <p:spPr>
          <a:xfrm>
            <a:off x="287280" y="2050920"/>
            <a:ext cx="9145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 empresa está entusiasmada com os resultados da Rede Natura, ramo de comércio eletrônico da mar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O site apresenta uma nova forma de se relacionar com a Natura e comprar com os consultores, já que cada um deles possui seu próprio "Espaço Natura" na interne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Hoje 35% das entregas online são atualmente feitas em até 48 horas, e o plano é expandir esse número para até 60 a 70% dos pedidos. Atende Campinas e São José dos Camp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lém do investimento em TI, a empresa espera no médio-prazo ter não só a marca Natura, mas desenvolver outros projetos que se correlacionem. A rede pretende também ir além do ramo dos cosmétic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tângulo 3"/>
          <p:cNvSpPr/>
          <p:nvPr/>
        </p:nvSpPr>
        <p:spPr>
          <a:xfrm>
            <a:off x="503280" y="4427640"/>
            <a:ext cx="921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Ainda dentro das expectativas para 2014, há o plano de retomar as lojas-conceito, como a da rua Oscar Freire, como exposição da marca e não para negócio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Falando de preços, o executivo afirmou que o reajuste será de 5%, sem previsão ainda de que existam outros. A Natura estima investimentos de 500 milhões de reais nesse ano (20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311640" y="1763640"/>
            <a:ext cx="28080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Ubiara</cp:lastModifiedBy>
  <dcterms:modified xsi:type="dcterms:W3CDTF">2014-04-02T02:00:19Z</dcterms:modified>
  <cp:revision>41</cp:revision>
  <dc:subject/>
  <dc:title>Natura – linha de maquiagem</dc:title>
</cp:coreProperties>
</file>