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8A170-B77C-4F52-92F6-690015C9BBB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6A219-D234-4159-A87F-0474A39B6CE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02BBD-650E-4EE6-979B-DBC2858E864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9E6D9-607F-4B98-92DC-E5CA46209D0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C3758-5FF1-4628-B66E-C77390944C7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473C4-BA83-4CEE-B59B-CCCB2B1E721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22DA8-1D53-4DF4-8356-8363D3F83E9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4183D-8F13-4F17-B787-568F8F505E2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E2FEC-D6ED-409C-9610-C2138CBBA33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736F4-2A92-4B1F-BECA-F779AFAD5B1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A6F68-AD92-42A2-978D-6F7CF25D20F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B8EEA-B4D3-4691-8D6E-8B3FD5D5440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9872D-E4B9-4341-B659-239CC5DEDA6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EDC94-2F7D-4BB6-BA71-412AC50216E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1A292-272C-4495-ABF4-97A1E1725A8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5DAA2-15B5-4E3C-A013-634932CF408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0E808-4C3F-420C-B15A-CAFF34EE210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D560F-8213-4DEE-9619-3D9E8808581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B81B1-63C5-471E-AE1F-17C8E63667C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00A73-8776-4916-A589-637E22FE98D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C1857-D18F-4423-853E-0465EAC5196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D1377-BBD5-4589-993E-5A804DC37FD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F2915-70FD-4A6B-AF08-F68855264AC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A5CB7-B1FA-42C7-AD85-537195FAABB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978C4-869A-4BDE-BA47-82A3CCE2F69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5B2DE-AD70-4E7A-A800-0C46F0F7D37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A491D-8564-4C1C-9368-541D1E9CE25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62C59-6CB8-4BC2-8159-6AADEDA41D4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91C67-907B-4117-A2AF-F820E032AF0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0E7CF-8AC3-40C1-BAF3-6EA8011965E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155DE-FF62-4A2D-94D8-D6A8653BE77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F387A-485E-484B-9C05-BACCE1416F3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67DA2-6983-421A-B6CA-0C6680221EF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69C29-0FE1-408D-9B53-5BF79A1F9E1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40C33-85CC-4E3D-B81B-DF71F451EEF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0B8D1-AA3B-42E9-92A9-549DBB75A1B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F3EAD-21B0-4E5F-8641-851CDA5A163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E342C-C40D-4EE4-B693-F495EA8AC4E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65C0F-86A8-4B1E-BED4-8E797BD5D57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0E01E-24D3-414D-A13E-BF6519B4013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B7E37-F3A0-4E55-85B0-07762071561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ACF72-5B0F-4289-AD46-F5155B09622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D4F8-6AD3-4EF7-8B18-0249F954F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7BF6-7658-4E34-B879-03492663C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FD05-A9E8-45A5-8A67-573DFBB48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327B-F97B-4564-A479-1071AA9564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4E89A-D24B-4DDB-8655-5A7542A97B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93E0-2D63-4807-B394-5984D7B70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6A9B-3970-4AC9-AE12-43A768474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F7A4-AED2-4E5E-A4AA-68630F422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5A1E-06CE-4E53-A75D-F4A0387A6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11C0-6E75-4570-B11F-98355B0F0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47AC-4BBF-4044-8D80-698CD3C8A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F006-BE35-463B-954A-BDFD99019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ECF4E8-302C-46C3-ABA9-5D3E1833528C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3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4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om.br/url?sa=i&amp;rct=j&amp;q=&amp;esrc=s&amp;source=images&amp;cd=&amp;cad=rja&amp;uact=8&amp;docid=X5y_KKJR5IenYM&amp;tbnid=-0e_MSYy4wqATM:&amp;ved=0CAUQjRw&amp;url=http%3A%2F%2Fwww.leotubarao.com.br%2Ftag%2Fe-commerce%2F&amp;ei=_Wg7U5yoAqP30gH47YDoCA&amp;bvm=bv.63934634,d.dmQ&amp;psig=AFQjCNH1oUePgvb6z6OlA4dDvOqASPNDYw&amp;ust=1396488822015251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r/url?sa=i&amp;rct=j&amp;q=&amp;esrc=s&amp;source=images&amp;cd=&amp;cad=rja&amp;uact=8&amp;docid=hDlcQ3Sq35pySM&amp;tbnid=L_ANeLK-unkrTM:&amp;ved=0CAUQjRw&amp;url=http%3A%2F%2Fwww.baresbh.com%2F2013_05_01_archive.html&amp;ei=gXE4U_bvAor40gHOr4FA&amp;bvm=bv.63808443,d.dmQ&amp;psig=AFQjCNHNcyvtRanPyVqguxWXINzyIBX8Ig&amp;ust=1396294388205164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hyperlink" Target="http://www.exame.com.br/topicos/image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de ca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4"/>
          <p:cNvSpPr/>
          <p:nvPr/>
        </p:nvSpPr>
        <p:spPr>
          <a:xfrm>
            <a:off x="287280" y="1692360"/>
            <a:ext cx="97934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 venda direta representa um desafio para empresas do setor, que têm em suas representantes e consultoras a base de seu negócio – e não trabalham com franquia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e-commerce poderia ser uma saída, não representasse um risco ao principal canal de vendas das companhia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1944720" y="2987640"/>
            <a:ext cx="5746680" cy="2706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mbiente futu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">
            <a:hlinkClick r:id="rId2"/>
          </p:cNvPr>
          <p:cNvSpPr/>
          <p:nvPr/>
        </p:nvSpPr>
        <p:spPr>
          <a:xfrm>
            <a:off x="58680" y="-179064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">
            <a:hlinkClick r:id="rId3"/>
          </p:cNvPr>
          <p:cNvSpPr/>
          <p:nvPr/>
        </p:nvSpPr>
        <p:spPr>
          <a:xfrm>
            <a:off x="0" y="-219708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>
            <a:hlinkClick r:id="rId4"/>
          </p:cNvPr>
          <p:cNvSpPr/>
          <p:nvPr/>
        </p:nvSpPr>
        <p:spPr>
          <a:xfrm>
            <a:off x="287280" y="179280"/>
            <a:ext cx="792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acto X Grau de incerte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92000" y="1403280"/>
          <a:ext cx="6985080" cy="446580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22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23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06" name="CaixaDeTexto 4"/>
          <p:cNvSpPr/>
          <p:nvPr/>
        </p:nvSpPr>
        <p:spPr>
          <a:xfrm>
            <a:off x="1079640" y="62690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u de incert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aixaDeTexto 6"/>
          <p:cNvSpPr/>
          <p:nvPr/>
        </p:nvSpPr>
        <p:spPr>
          <a:xfrm>
            <a:off x="7920000" y="183528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– Clien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– Concorr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 – Econô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 – Tecnoló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–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– Polí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 – Juríd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 –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– Disponibilidade do prod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tângulo 7" descr=""/>
          <p:cNvPicPr/>
          <p:nvPr/>
        </p:nvPicPr>
        <p:blipFill>
          <a:blip r:embed="rId1"/>
          <a:stretch/>
        </p:blipFill>
        <p:spPr>
          <a:xfrm>
            <a:off x="4254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0" name="Retângulo 9" descr=""/>
          <p:cNvPicPr/>
          <p:nvPr/>
        </p:nvPicPr>
        <p:blipFill>
          <a:blip r:embed="rId2"/>
          <a:stretch/>
        </p:blipFill>
        <p:spPr>
          <a:xfrm>
            <a:off x="3462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1" name="Retângulo 10" descr=""/>
          <p:cNvPicPr/>
          <p:nvPr/>
        </p:nvPicPr>
        <p:blipFill>
          <a:blip r:embed="rId3"/>
          <a:stretch/>
        </p:blipFill>
        <p:spPr>
          <a:xfrm>
            <a:off x="497376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2" name="Retângulo 11" descr=""/>
          <p:cNvPicPr/>
          <p:nvPr/>
        </p:nvPicPr>
        <p:blipFill>
          <a:blip r:embed="rId4"/>
          <a:stretch/>
        </p:blipFill>
        <p:spPr>
          <a:xfrm>
            <a:off x="3029040" y="4041720"/>
            <a:ext cx="79992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Retângulo 12" descr=""/>
          <p:cNvPicPr/>
          <p:nvPr/>
        </p:nvPicPr>
        <p:blipFill>
          <a:blip r:embed="rId5"/>
          <a:stretch/>
        </p:blipFill>
        <p:spPr>
          <a:xfrm>
            <a:off x="2176560" y="4181400"/>
            <a:ext cx="779400" cy="665280"/>
          </a:xfrm>
          <a:prstGeom prst="rect">
            <a:avLst/>
          </a:prstGeom>
          <a:ln w="0">
            <a:noFill/>
          </a:ln>
        </p:spPr>
      </p:pic>
      <p:pic>
        <p:nvPicPr>
          <p:cNvPr id="114" name="Retângulo 13" descr=""/>
          <p:cNvPicPr/>
          <p:nvPr/>
        </p:nvPicPr>
        <p:blipFill>
          <a:blip r:embed="rId6"/>
          <a:stretch/>
        </p:blipFill>
        <p:spPr>
          <a:xfrm>
            <a:off x="1395360" y="4041720"/>
            <a:ext cx="757440" cy="658800"/>
          </a:xfrm>
          <a:prstGeom prst="rect">
            <a:avLst/>
          </a:prstGeom>
          <a:ln w="0">
            <a:noFill/>
          </a:ln>
        </p:spPr>
      </p:pic>
      <p:pic>
        <p:nvPicPr>
          <p:cNvPr id="115" name="Retângulo 14" descr=""/>
          <p:cNvPicPr/>
          <p:nvPr/>
        </p:nvPicPr>
        <p:blipFill>
          <a:blip r:embed="rId7"/>
          <a:stretch/>
        </p:blipFill>
        <p:spPr>
          <a:xfrm>
            <a:off x="2730600" y="1590840"/>
            <a:ext cx="823680" cy="658800"/>
          </a:xfrm>
          <a:prstGeom prst="rect">
            <a:avLst/>
          </a:prstGeom>
          <a:ln w="0">
            <a:noFill/>
          </a:ln>
        </p:spPr>
      </p:pic>
      <p:pic>
        <p:nvPicPr>
          <p:cNvPr id="116" name="Retângulo 15" descr=""/>
          <p:cNvPicPr/>
          <p:nvPr/>
        </p:nvPicPr>
        <p:blipFill>
          <a:blip r:embed="rId8"/>
          <a:stretch/>
        </p:blipFill>
        <p:spPr>
          <a:xfrm>
            <a:off x="4761000" y="4108320"/>
            <a:ext cx="798480" cy="665280"/>
          </a:xfrm>
          <a:prstGeom prst="rect">
            <a:avLst/>
          </a:prstGeom>
          <a:ln w="0">
            <a:noFill/>
          </a:ln>
        </p:spPr>
      </p:pic>
      <p:pic>
        <p:nvPicPr>
          <p:cNvPr id="117" name="Retângulo 16" descr=""/>
          <p:cNvPicPr/>
          <p:nvPr/>
        </p:nvPicPr>
        <p:blipFill>
          <a:blip r:embed="rId9"/>
          <a:stretch/>
        </p:blipFill>
        <p:spPr>
          <a:xfrm>
            <a:off x="5705640" y="1517760"/>
            <a:ext cx="63468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Sw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79640" y="1403280"/>
          <a:ext cx="7921440" cy="496908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24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orç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a conhec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a percepção de 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hecimento do mercado n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resa reconhecidamente é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portun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mento do poder de compra da popul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or preocupação ética dos consumi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4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aquez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ção de marca de pouca sofistic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meaç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 de marcas internacionais no mercado brasil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ência de “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 no merc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ortância X desempe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79640" y="1403280"/>
          <a:ext cx="8353440" cy="48960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4600"/>
              </a:tblGrid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6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e do prod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4" name="CaixaDeTexto 4"/>
          <p:cNvSpPr/>
          <p:nvPr/>
        </p:nvSpPr>
        <p:spPr>
          <a:xfrm>
            <a:off x="1079640" y="630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â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mpen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gu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APs dos proces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aixaDeTexto 3"/>
          <p:cNvSpPr/>
          <p:nvPr/>
        </p:nvSpPr>
        <p:spPr>
          <a:xfrm>
            <a:off x="360360" y="1763640"/>
            <a:ext cx="93600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principal GAP no processo é a disponibilidade do produto. O principal canal de vendas e o próprio modelo de negócio da Natura (venda direta) está desga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maneira de disponibilizar os produtos para os clientes de maneira mais rápida é o principal desafio para a empres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1655640" y="4356000"/>
            <a:ext cx="186696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9"/>
          <p:cNvSpPr/>
          <p:nvPr/>
        </p:nvSpPr>
        <p:spPr>
          <a:xfrm>
            <a:off x="3887640" y="4716360"/>
            <a:ext cx="2305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75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4" descr="http://leotubarao.com.br/wp-content/uploads/2012/07/e-commerc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61080" y="399564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udança nos fatores-c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aixaDeTexto 3"/>
          <p:cNvSpPr/>
          <p:nvPr/>
        </p:nvSpPr>
        <p:spPr>
          <a:xfrm>
            <a:off x="360360" y="1979640"/>
            <a:ext cx="8496360" cy="51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300" spc="-1" strike="noStrike">
                <a:solidFill>
                  <a:srgbClr val="3333cc"/>
                </a:solidFill>
                <a:latin typeface="Arial"/>
              </a:rPr>
              <a:t>Disponibilidade de produto-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 loja em parceria com o portal Submarino.  A página tem uma área onde o internauta pode encontrar uma consultora. Mas quem prefere fazer o pedido e receber em casa, tem essa opção. Chegar até a loja, no entanto, não é tão fácil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link na página oficial da Natura, por exemplo, direciona o internauta para uma página inexistente. A Natura confirma que não promove a loja online e diz que seu projeto de e-commerce seria a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ova Estraté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1547640"/>
            <a:ext cx="10080720" cy="54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Vantagens competitiv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ixaDeTexto 3"/>
          <p:cNvSpPr/>
          <p:nvPr/>
        </p:nvSpPr>
        <p:spPr>
          <a:xfrm>
            <a:off x="719280" y="1692360"/>
            <a:ext cx="468144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Aumento das vend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Maior alcance de cli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Possibilidade de ampliação do publico alvo para outros segmento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http://4.bp.blogspot.com/-62aMZieC1xs/UZ0lojigq0I/AAAAAAAACJc/JmDkUPVPlQ0/s1600/grafic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1619280"/>
            <a:ext cx="486864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03280"/>
            <a:ext cx="10080720" cy="576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, tecnologia e pesso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tângulo 3"/>
          <p:cNvSpPr/>
          <p:nvPr/>
        </p:nvSpPr>
        <p:spPr>
          <a:xfrm>
            <a:off x="216000" y="140328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http://exame.abril.com.br/negocios/noticias/natura-destaca-investimento-em-ti-e-crescimento-em-ba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tângulo 4"/>
          <p:cNvSpPr/>
          <p:nvPr/>
        </p:nvSpPr>
        <p:spPr>
          <a:xfrm>
            <a:off x="287280" y="2050920"/>
            <a:ext cx="9145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 empresa está entusiasmada com os resultados da Rede Natura, ramo de comércio eletrônico da mar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O site apresenta uma nova forma de se relacionar com a Natura e comprar com os consultores, já que cada um deles possui seu próprio "Espaço Natura" na interne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Hoje 35% das entregas online são atualmente feitas em até 48 horas, e o plano é expandir esse número para até 60 a 70% dos pedidos. Atende Campinas e São José dos Camp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lém do investimento em TI, a empresa espera no médio-prazo ter não só a marca Natura, mas desenvolver outros projetos que se correlacionem. A rede pretende também ir além do ramo dos cosmétic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tângulo 3"/>
          <p:cNvSpPr/>
          <p:nvPr/>
        </p:nvSpPr>
        <p:spPr>
          <a:xfrm>
            <a:off x="503280" y="4427640"/>
            <a:ext cx="921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Ainda dentro das expectativas para 2014, há o plano de retomar as lojas-conceito, como a da rua Oscar Freire, como exposição da marca e não para negócio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Falando de preços, o executivo afirmou que o reajuste será de 5%, sem previsão ainda de que existam outros. A Natura estima investimentos de 500 milhões de reais nesse ano (20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311640" y="1763640"/>
            <a:ext cx="28080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Ubiara</cp:lastModifiedBy>
  <dcterms:modified xsi:type="dcterms:W3CDTF">2014-04-02T02:00:19Z</dcterms:modified>
  <cp:revision>41</cp:revision>
  <dc:subject/>
  <dc:title>Natura – linha de maquiagem</dc:title>
</cp:coreProperties>
</file>