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02F0B-BB56-4F58-8062-550FECA3032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0B327-AEE7-474F-AA12-680B94ABBE0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8E0E2-16C2-4463-83B5-6E7F3F2390E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968C3-FF12-4D6C-99D0-DEF74CE024F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49BAC-79FA-4371-BFD7-0AFE0F482F4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64D1D-B8CB-4253-957E-0B3138BBFE4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0DA2C-B996-4F9E-A9AB-7BD22ADA30D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72D49-6974-449D-898B-0AD8471003B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DAD2A-A875-4A74-ABFB-D51FE7ECC3A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69E89-7623-4F00-AA3D-A6D0ADD1541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811B2-CF30-46A1-B537-F29D7122FA3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A3A55-82FF-48F6-A1E1-BEEE78C0C7D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044CA-1D35-447C-8BB5-86DE20F70A7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FACE0-E9C9-408C-9ED4-5AF0BCCA0DF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743BE-BF65-4ED7-A80E-F615447E155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97EB2-C827-4BA3-9C47-8179FFB10E9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22E3B-6489-4090-8C15-6E3854E7CAE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F77A4-3D9E-4E02-80CC-3036DD13223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CF86D-73E9-4D07-A071-582BC8A4FEE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7D4AE-3F0E-4363-A3AE-2AA374ACF0C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2DBEF-FFC6-459D-B572-0BF6508EDCA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0A234-EE95-4D83-AA49-1D774E15692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873E3-AC05-41C4-88A7-B85ACB45825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64A4F-9CC4-44F2-8DE9-0E29C037159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DDB43-FDF2-43C1-97D0-92CD84110D4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EDE91-B9D9-4B54-A510-01A23515D03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3F8E5-3A99-4EF6-855E-980DCBC6333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5B528-D979-491F-BA37-72DD7C6B294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ECB61-675A-4DB2-BD94-0A8497871BE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2FE5E-7B21-448C-8D3E-7B0420367A6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F696B-F881-468B-95B1-8015BECD816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B5B70-41C9-4C0F-A6E0-DB27BDC9066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188B8-6BC1-4F4A-B308-2D278093DC4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389CF-F834-4A7A-BE8B-79C02D9171F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1AC9C-22CB-47C7-A745-2A82E540383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73748-EF84-4C03-968A-35BCD8E4C13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0F89D-30E0-4D27-9721-993A571DB5B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5E800-481D-4F11-9259-F92C3A1CD1B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A13AA-7C4F-4CCD-AFD8-E6E8011A29B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F2E05-99B3-447B-8FBE-918C0E44920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2952C-29D7-4B48-A580-A36378B0DA8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AB7E6-CE03-4224-BFA3-46B1843D3B1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2084-A755-4AAD-865E-BC0FA5C16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1D14-CA99-42BE-8DED-DF03C6049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81BD-526F-4E28-86AA-A121959FD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69E3-C2E8-4E61-8F75-824F9D0A5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F4C5-D5FE-44E0-8880-46A9A4C44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C6BF-AF47-4949-A6E7-55DDD62E8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3991-E574-4B62-890B-41A22FB10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92DC-F78E-4FF7-A490-5C788507C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956A-5CCB-49A0-B902-ADC046070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EE6C-E018-40C9-9345-318E0996B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9384-4714-415B-88C7-E94347451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8433-9E1F-403D-B8F3-68CE7E41C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4E46B3-BF65-4A43-AE8D-02658FE50E81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3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4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om.br/url?sa=i&amp;rct=j&amp;q=&amp;esrc=s&amp;source=images&amp;cd=&amp;cad=rja&amp;uact=8&amp;docid=X5y_KKJR5IenYM&amp;tbnid=-0e_MSYy4wqATM:&amp;ved=0CAUQjRw&amp;url=http%3A%2F%2Fwww.leotubarao.com.br%2Ftag%2Fe-commerce%2F&amp;ei=_Wg7U5yoAqP30gH47YDoCA&amp;bvm=bv.63934634,d.dmQ&amp;psig=AFQjCNH1oUePgvb6z6OlA4dDvOqASPNDYw&amp;ust=1396488822015251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r/url?sa=i&amp;rct=j&amp;q=&amp;esrc=s&amp;source=images&amp;cd=&amp;cad=rja&amp;uact=8&amp;docid=hDlcQ3Sq35pySM&amp;tbnid=L_ANeLK-unkrTM:&amp;ved=0CAUQjRw&amp;url=http%3A%2F%2Fwww.baresbh.com%2F2013_05_01_archive.html&amp;ei=gXE4U_bvAor40gHOr4FA&amp;bvm=bv.63808443,d.dmQ&amp;psig=AFQjCNHNcyvtRanPyVqguxWXINzyIBX8Ig&amp;ust=1396294388205164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hyperlink" Target="http://www.exame.com.br/topicos/image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de ca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4"/>
          <p:cNvSpPr/>
          <p:nvPr/>
        </p:nvSpPr>
        <p:spPr>
          <a:xfrm>
            <a:off x="287280" y="1692360"/>
            <a:ext cx="97934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 venda direta representa um desafio para empresas do setor, que têm em suas representantes e consultoras a base de seu negócio – e não trabalham com franquia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e-commerce poderia ser uma saída, não representasse um risco ao principal canal de vendas das companhia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1944720" y="2987640"/>
            <a:ext cx="5746680" cy="2706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mbiente futu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">
            <a:hlinkClick r:id="rId2"/>
          </p:cNvPr>
          <p:cNvSpPr/>
          <p:nvPr/>
        </p:nvSpPr>
        <p:spPr>
          <a:xfrm>
            <a:off x="58680" y="-179064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">
            <a:hlinkClick r:id="rId3"/>
          </p:cNvPr>
          <p:cNvSpPr/>
          <p:nvPr/>
        </p:nvSpPr>
        <p:spPr>
          <a:xfrm>
            <a:off x="0" y="-219708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>
            <a:hlinkClick r:id="rId4"/>
          </p:cNvPr>
          <p:cNvSpPr/>
          <p:nvPr/>
        </p:nvSpPr>
        <p:spPr>
          <a:xfrm>
            <a:off x="287280" y="179280"/>
            <a:ext cx="792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acto X Grau de incerte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92000" y="1403280"/>
          <a:ext cx="6985080" cy="446580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22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23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06" name="CaixaDeTexto 4"/>
          <p:cNvSpPr/>
          <p:nvPr/>
        </p:nvSpPr>
        <p:spPr>
          <a:xfrm>
            <a:off x="1079640" y="62690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u de incert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aixaDeTexto 6"/>
          <p:cNvSpPr/>
          <p:nvPr/>
        </p:nvSpPr>
        <p:spPr>
          <a:xfrm>
            <a:off x="7920000" y="183528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– Clien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– Concorr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 – Econô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 – Tecnoló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–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– Polí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 – Juríd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 –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– Disponibilidade do prod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tângulo 7" descr=""/>
          <p:cNvPicPr/>
          <p:nvPr/>
        </p:nvPicPr>
        <p:blipFill>
          <a:blip r:embed="rId1"/>
          <a:stretch/>
        </p:blipFill>
        <p:spPr>
          <a:xfrm>
            <a:off x="4254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0" name="Retângulo 9" descr=""/>
          <p:cNvPicPr/>
          <p:nvPr/>
        </p:nvPicPr>
        <p:blipFill>
          <a:blip r:embed="rId2"/>
          <a:stretch/>
        </p:blipFill>
        <p:spPr>
          <a:xfrm>
            <a:off x="3462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1" name="Retângulo 10" descr=""/>
          <p:cNvPicPr/>
          <p:nvPr/>
        </p:nvPicPr>
        <p:blipFill>
          <a:blip r:embed="rId3"/>
          <a:stretch/>
        </p:blipFill>
        <p:spPr>
          <a:xfrm>
            <a:off x="497376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2" name="Retângulo 11" descr=""/>
          <p:cNvPicPr/>
          <p:nvPr/>
        </p:nvPicPr>
        <p:blipFill>
          <a:blip r:embed="rId4"/>
          <a:stretch/>
        </p:blipFill>
        <p:spPr>
          <a:xfrm>
            <a:off x="3029040" y="4041720"/>
            <a:ext cx="79992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Retângulo 12" descr=""/>
          <p:cNvPicPr/>
          <p:nvPr/>
        </p:nvPicPr>
        <p:blipFill>
          <a:blip r:embed="rId5"/>
          <a:stretch/>
        </p:blipFill>
        <p:spPr>
          <a:xfrm>
            <a:off x="2176560" y="4181400"/>
            <a:ext cx="779400" cy="665280"/>
          </a:xfrm>
          <a:prstGeom prst="rect">
            <a:avLst/>
          </a:prstGeom>
          <a:ln w="0">
            <a:noFill/>
          </a:ln>
        </p:spPr>
      </p:pic>
      <p:pic>
        <p:nvPicPr>
          <p:cNvPr id="114" name="Retângulo 13" descr=""/>
          <p:cNvPicPr/>
          <p:nvPr/>
        </p:nvPicPr>
        <p:blipFill>
          <a:blip r:embed="rId6"/>
          <a:stretch/>
        </p:blipFill>
        <p:spPr>
          <a:xfrm>
            <a:off x="1395360" y="4041720"/>
            <a:ext cx="757440" cy="658800"/>
          </a:xfrm>
          <a:prstGeom prst="rect">
            <a:avLst/>
          </a:prstGeom>
          <a:ln w="0">
            <a:noFill/>
          </a:ln>
        </p:spPr>
      </p:pic>
      <p:pic>
        <p:nvPicPr>
          <p:cNvPr id="115" name="Retângulo 14" descr=""/>
          <p:cNvPicPr/>
          <p:nvPr/>
        </p:nvPicPr>
        <p:blipFill>
          <a:blip r:embed="rId7"/>
          <a:stretch/>
        </p:blipFill>
        <p:spPr>
          <a:xfrm>
            <a:off x="2730600" y="1590840"/>
            <a:ext cx="823680" cy="658800"/>
          </a:xfrm>
          <a:prstGeom prst="rect">
            <a:avLst/>
          </a:prstGeom>
          <a:ln w="0">
            <a:noFill/>
          </a:ln>
        </p:spPr>
      </p:pic>
      <p:pic>
        <p:nvPicPr>
          <p:cNvPr id="116" name="Retângulo 15" descr=""/>
          <p:cNvPicPr/>
          <p:nvPr/>
        </p:nvPicPr>
        <p:blipFill>
          <a:blip r:embed="rId8"/>
          <a:stretch/>
        </p:blipFill>
        <p:spPr>
          <a:xfrm>
            <a:off x="4761000" y="4108320"/>
            <a:ext cx="798480" cy="665280"/>
          </a:xfrm>
          <a:prstGeom prst="rect">
            <a:avLst/>
          </a:prstGeom>
          <a:ln w="0">
            <a:noFill/>
          </a:ln>
        </p:spPr>
      </p:pic>
      <p:pic>
        <p:nvPicPr>
          <p:cNvPr id="117" name="Retângulo 16" descr=""/>
          <p:cNvPicPr/>
          <p:nvPr/>
        </p:nvPicPr>
        <p:blipFill>
          <a:blip r:embed="rId9"/>
          <a:stretch/>
        </p:blipFill>
        <p:spPr>
          <a:xfrm>
            <a:off x="5705640" y="1517760"/>
            <a:ext cx="63468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Sw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79640" y="1403280"/>
          <a:ext cx="7921440" cy="496908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24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orç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a conhec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a percepção de 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hecimento do mercado n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resa reconhecidamente é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portun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mento do poder de compra da popul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or preocupação ética dos consumi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4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aquez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ção de marca de pouca sofistic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meaç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 de marcas internacionais no mercado brasil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ência de “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 no merc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ortância X desempe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79640" y="1403280"/>
          <a:ext cx="8353440" cy="48960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4600"/>
              </a:tblGrid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6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e do prod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4" name="CaixaDeTexto 4"/>
          <p:cNvSpPr/>
          <p:nvPr/>
        </p:nvSpPr>
        <p:spPr>
          <a:xfrm>
            <a:off x="1079640" y="630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â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mpen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gu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APs dos proces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aixaDeTexto 3"/>
          <p:cNvSpPr/>
          <p:nvPr/>
        </p:nvSpPr>
        <p:spPr>
          <a:xfrm>
            <a:off x="360360" y="1763640"/>
            <a:ext cx="93600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principal GAP no processo é a disponibilidade do produto. O principal canal de vendas e o próprio modelo de negócio da Natura (venda direta) está desga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maneira de disponibilizar os produtos para os clientes de maneira mais rápida é o principal desafio para a empres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1655640" y="4356000"/>
            <a:ext cx="186696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9"/>
          <p:cNvSpPr/>
          <p:nvPr/>
        </p:nvSpPr>
        <p:spPr>
          <a:xfrm>
            <a:off x="3887640" y="4716360"/>
            <a:ext cx="2305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75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4" descr="http://leotubarao.com.br/wp-content/uploads/2012/07/e-commerc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61080" y="399564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udança nos fatores-c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aixaDeTexto 3"/>
          <p:cNvSpPr/>
          <p:nvPr/>
        </p:nvSpPr>
        <p:spPr>
          <a:xfrm>
            <a:off x="360360" y="1979640"/>
            <a:ext cx="8496360" cy="51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300" spc="-1" strike="noStrike">
                <a:solidFill>
                  <a:srgbClr val="3333cc"/>
                </a:solidFill>
                <a:latin typeface="Arial"/>
              </a:rPr>
              <a:t>Disponibilidade de produto-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 loja em parceria com o portal Submarino.  A página tem uma área onde o internauta pode encontrar uma consultora. Mas quem prefere fazer o pedido e receber em casa, tem essa opção. Chegar até a loja, no entanto, não é tão fácil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link na página oficial da Natura, por exemplo, direciona o internauta para uma página inexistente. A Natura confirma que não promove a loja online e diz que seu projeto de e-commerce seria a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ova Estraté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1547640"/>
            <a:ext cx="10080720" cy="54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Vantagens competitiv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ixaDeTexto 3"/>
          <p:cNvSpPr/>
          <p:nvPr/>
        </p:nvSpPr>
        <p:spPr>
          <a:xfrm>
            <a:off x="719280" y="1692360"/>
            <a:ext cx="468144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Aumento das vend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Maior alcance de cli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Possibilidade de ampliação do publico alvo para outros segmento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http://4.bp.blogspot.com/-62aMZieC1xs/UZ0lojigq0I/AAAAAAAACJc/JmDkUPVPlQ0/s1600/grafic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1619280"/>
            <a:ext cx="486864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03280"/>
            <a:ext cx="10080720" cy="576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, tecnologia e pesso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tângulo 3"/>
          <p:cNvSpPr/>
          <p:nvPr/>
        </p:nvSpPr>
        <p:spPr>
          <a:xfrm>
            <a:off x="216000" y="140328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http://exame.abril.com.br/negocios/noticias/natura-destaca-investimento-em-ti-e-crescimento-em-ba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tângulo 4"/>
          <p:cNvSpPr/>
          <p:nvPr/>
        </p:nvSpPr>
        <p:spPr>
          <a:xfrm>
            <a:off x="287280" y="2050920"/>
            <a:ext cx="9145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 empresa está entusiasmada com os resultados da Rede Natura, ramo de comércio eletrônico da mar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O site apresenta uma nova forma de se relacionar com a Natura e comprar com os consultores, já que cada um deles possui seu próprio "Espaço Natura" na interne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Hoje 35% das entregas online são atualmente feitas em até 48 horas, e o plano é expandir esse número para até 60 a 70% dos pedidos. Atende Campinas e São José dos Camp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lém do investimento em TI, a empresa espera no médio-prazo ter não só a marca Natura, mas desenvolver outros projetos que se correlacionem. A rede pretende também ir além do ramo dos cosmétic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tângulo 3"/>
          <p:cNvSpPr/>
          <p:nvPr/>
        </p:nvSpPr>
        <p:spPr>
          <a:xfrm>
            <a:off x="503280" y="4427640"/>
            <a:ext cx="921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Ainda dentro das expectativas para 2014, há o plano de retomar as lojas-conceito, como a da rua Oscar Freire, como exposição da marca e não para negócio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Falando de preços, o executivo afirmou que o reajuste será de 5%, sem previsão ainda de que existam outros. A Natura estima investimentos de 500 milhões de reais nesse ano (20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311640" y="1763640"/>
            <a:ext cx="28080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Ubiara</cp:lastModifiedBy>
  <dcterms:modified xsi:type="dcterms:W3CDTF">2014-04-02T02:00:19Z</dcterms:modified>
  <cp:revision>41</cp:revision>
  <dc:subject/>
  <dc:title>Natura – linha de maquiagem</dc:title>
</cp:coreProperties>
</file>