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7DB8A-A905-49DB-94D8-E87316E3FF1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62494-5BD7-477A-9FDB-709492DBD98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C8F46-9620-4D36-9DE0-E37CA8F2F08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3BEDF-1ED1-40E8-A285-C63408EBB49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B0F23-811F-42E0-BD9C-8BE5E699B19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93D56-548A-4548-B376-04AC98215DF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7465E-1563-4E8E-B1C8-31D864DB9C58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D979E-919A-470D-A731-DFB0C14B072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B9184-3411-4538-B731-F5D43710501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46996-14DF-42FA-9803-CDC80F41CDC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E7BCF-8E2F-461F-B3BF-2C04C713C18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9E99C-A950-44FE-ABB4-40A5FD4FFC1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05D56-638A-4141-AAEF-541A95822E0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4A41C-86D0-4284-A32E-62A64EF5674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458E4-E75F-448A-B276-C690638F361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329B2-42B0-4C15-84EC-85BBEBC35D9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3CC85-0ACB-4DFB-BA19-2A7546F6AA5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A8684-0C4F-4F0C-AEAB-B94C03485E1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7D7A7-653B-4405-9AED-F537669BAF7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A8E4C-C5AA-4FE1-969F-F051B40D956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AAD82-863E-4552-A5A9-F0E5C6CEDDD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440BC-C379-45B4-82A5-7553643F43F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01D2B-9963-4BA9-9E36-F642BDBEFDA8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603E4-2458-45C0-958A-9E5723CD07C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A63D9-E32E-475E-8130-563474CFB85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58115-B00B-4BB9-A3AE-2DD48AE2688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1EB42-B7DF-47A8-A3C0-DF544A43C55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F64F1-4DDC-4830-A975-27EDDAC1CE3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A4258-D45E-4128-97B1-432F8F76690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86419-2329-4CF2-AFD0-FC6894EF469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A0115-4159-4A77-A8C4-E60D520ADD2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47A70-954F-4505-A4DD-E19C2D3C118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7D7AB-D753-4D0A-94F9-A42E49CCE4B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66CA0-A47A-40A6-BFFF-88C4996F170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B261D-04F9-470C-8FF3-F59E6C43191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B4934-0A4E-4F5E-AF40-BE201C04F4F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EF68A-B1B9-458D-A5DC-612F6032249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DCAB1-65CF-4202-80BB-2F15293991D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BFF21-67B5-4640-8852-56BC0359744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EAE5F-16A8-443A-8D1A-32C6AD3FA31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4ADEA-9289-4DDE-8AB6-00182D93042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84DB5-3BF1-4333-974F-E796A85C1F7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9EB8-7F18-4FC4-B241-29DC72D1F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FE49-F8A9-4D80-9E7F-5D58CADC8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83043-27E3-40AF-9246-8B365E974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626A-4A9E-4D88-B62D-3BF2069FCB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6C80-0CC4-4582-9732-1301C30BFC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DD03-BBB8-4F0B-8F23-E28D2E81C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1773-53C4-4E9D-8B74-C2B5D8263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74F30-48FB-4936-960C-6F0EF47FC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3A9A-4BC6-4DDA-B71B-6A37593C4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2E05-8521-4457-919F-956C9B22F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9808-A2B6-4A1E-9BB9-2A6D17A5A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7657-DD5C-405B-8EE4-1FBED8A97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EC8877-8FAA-4FFE-A186-600A99F59E0A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google.com.br/url?sa=i&amp;rct=j&amp;q=&amp;esrc=s&amp;source=images&amp;cd=&amp;cad=rja&amp;uact=8&amp;docid=MxaY8zO0Cz-SbM&amp;tbnid=sS5n__-LJCgMcM:&amp;ved=0CAUQjRw&amp;url=http%3A%2F%2Fwww.e-commerceguide.com.br%2Fpage%2F20&amp;ei=BSs4U9qLIofh0wHD-YGwAQ&amp;bvm=bv.63808443,d.dmQ&amp;psig=AFQjCNEchoY5gIqbbQNKQakSpdauaWPtaw&amp;ust=1396276344849206" TargetMode="External"/><Relationship Id="rId3" Type="http://schemas.openxmlformats.org/officeDocument/2006/relationships/hyperlink" Target="http://www.google.com.br/url?sa=i&amp;rct=j&amp;q=&amp;esrc=s&amp;source=images&amp;cd=&amp;cad=rja&amp;uact=8&amp;docid=MxaY8zO0Cz-SbM&amp;tbnid=sS5n__-LJCgMcM:&amp;ved=0CAUQjRw&amp;url=http%3A%2F%2Fwww.e-commerceguide.com.br%2Fpage%2F20&amp;ei=BSs4U9qLIofh0wHD-YGwAQ&amp;bvm=bv.63808443,d.dmQ&amp;psig=AFQjCNEchoY5gIqbbQNKQakSpdauaWPtaw&amp;ust=1396276344849206" TargetMode="External"/><Relationship Id="rId4" Type="http://schemas.openxmlformats.org/officeDocument/2006/relationships/hyperlink" Target="http://www.google.com.br/url?sa=i&amp;rct=j&amp;q=&amp;esrc=s&amp;source=images&amp;cd=&amp;cad=rja&amp;uact=8&amp;docid=MxaY8zO0Cz-SbM&amp;tbnid=sS5n__-LJCgMcM:&amp;ved=0CAUQjRw&amp;url=http%3A%2F%2Fwww.e-commerceguide.com.br%2Fpage%2F20&amp;ei=BSs4U9qLIofh0wHD-YGwAQ&amp;bvm=bv.63808443,d.dmQ&amp;psig=AFQjCNEchoY5gIqbbQNKQakSpdauaWPtaw&amp;ust=1396276344849206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google.com.br/url?sa=i&amp;rct=j&amp;q=&amp;esrc=s&amp;source=images&amp;cd=&amp;cad=rja&amp;uact=8&amp;docid=X5y_KKJR5IenYM&amp;tbnid=-0e_MSYy4wqATM:&amp;ved=0CAUQjRw&amp;url=http%3A%2F%2Fwww.leotubarao.com.br%2Ftag%2Fe-commerce%2F&amp;ei=_Wg7U5yoAqP30gH47YDoCA&amp;bvm=bv.63934634,d.dmQ&amp;psig=AFQjCNH1oUePgvb6z6OlA4dDvOqASPNDYw&amp;ust=1396488822015251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.br/url?sa=i&amp;rct=j&amp;q=&amp;esrc=s&amp;source=images&amp;cd=&amp;cad=rja&amp;uact=8&amp;docid=hDlcQ3Sq35pySM&amp;tbnid=L_ANeLK-unkrTM:&amp;ved=0CAUQjRw&amp;url=http%3A%2F%2Fwww.baresbh.com%2F2013_05_01_archive.html&amp;ei=gXE4U_bvAor40gHOr4FA&amp;bvm=bv.63808443,d.dmQ&amp;psig=AFQjCNHNcyvtRanPyVqguxWXINzyIBX8Ig&amp;ust=1396294388205164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kantarworldpanel.com/br/Releases/news-articles/Olho-no-porta-a-porta" TargetMode="External"/><Relationship Id="rId2" Type="http://schemas.openxmlformats.org/officeDocument/2006/relationships/hyperlink" Target="http://www.ibope.com.br/pt-br/noticias/Paginas/Cresce-o-consumo-de-maquiagem-entre-as-brasileiras.aspx" TargetMode="External"/><Relationship Id="rId3" Type="http://schemas.openxmlformats.org/officeDocument/2006/relationships/hyperlink" Target="http://exame.abril.com.br/negocios/noticias/m-a-c-quer-dobrar-de-tamanho-no-brasil-em-tres-anos" TargetMode="External"/><Relationship Id="rId4" Type="http://schemas.openxmlformats.org/officeDocument/2006/relationships/hyperlink" Target="http://www.cosmeticanews.com.br/leitura.php?n=atualidade-cosmetica-promove-evento-sobre-o-mercado-de-maquiagem-no-brasil&amp;id=4650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xame.com.br/topicos/marcas" TargetMode="External"/><Relationship Id="rId2" Type="http://schemas.openxmlformats.org/officeDocument/2006/relationships/hyperlink" Target="http://www.exame.com.br/topicos/consumo" TargetMode="External"/><Relationship Id="rId3" Type="http://schemas.openxmlformats.org/officeDocument/2006/relationships/hyperlink" Target="http://www.exame.com.br/topicos/imagem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balho de ca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343640" y="6119640"/>
            <a:ext cx="2232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gia J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niela Ferr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ise Rodrig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biara Marfin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71280" y="1224000"/>
            <a:ext cx="9792000" cy="6264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CANVAS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991640" y="2016000"/>
            <a:ext cx="1439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úblico feminino adolescente e adulto das  Classes B e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256360" y="6195960"/>
            <a:ext cx="3671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e produtos via consultoras (venda dire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87280" y="6191280"/>
            <a:ext cx="367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&amp;D e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téria-pr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abricação e Distribu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032360" y="2092320"/>
            <a:ext cx="180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EM ESTAR B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Valorizar a beleza existente em toda mul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Relação custo benefí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Tratamento cosmético junto com maquiag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832360" y="1909800"/>
            <a:ext cx="2160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ção é a base modelo do negócio: consultoras conhecem produtos e 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904000" y="3803760"/>
            <a:ext cx="1944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ir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ciona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confiança com o cliente final através da consult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087640" y="1932120"/>
            <a:ext cx="194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ção ,  distribuição e venda de cosmé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144360" y="1728720"/>
            <a:ext cx="1800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ornecedores de insumos e embalag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munidades que fornecem insumos sustentáve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nsultoras de negó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160720" y="4103640"/>
            <a:ext cx="172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Fornecedores qualificad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- Consultor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Terceiros (fabricação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&amp;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CaixaDeTexto 4"/>
          <p:cNvSpPr/>
          <p:nvPr/>
        </p:nvSpPr>
        <p:spPr>
          <a:xfrm>
            <a:off x="287280" y="1692360"/>
            <a:ext cx="979344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 venda direta representa um desafio para empresas do setor, que têm em suas representantes e consultoras a base de seu negócio – e não trabalham com franquia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O e-commerce poderia ser uma saída, não representasse um risco ao principal canal de vendas das companhia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1"/>
          <a:stretch/>
        </p:blipFill>
        <p:spPr>
          <a:xfrm>
            <a:off x="1944720" y="2987640"/>
            <a:ext cx="5746680" cy="2706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Ambiente futur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2">
            <a:hlinkClick r:id="rId2"/>
          </p:cNvPr>
          <p:cNvSpPr/>
          <p:nvPr/>
        </p:nvSpPr>
        <p:spPr>
          <a:xfrm>
            <a:off x="58680" y="-1790640"/>
            <a:ext cx="79246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4">
            <a:hlinkClick r:id="rId3"/>
          </p:cNvPr>
          <p:cNvSpPr/>
          <p:nvPr/>
        </p:nvSpPr>
        <p:spPr>
          <a:xfrm>
            <a:off x="0" y="-2197080"/>
            <a:ext cx="79246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6">
            <a:hlinkClick r:id="rId4"/>
          </p:cNvPr>
          <p:cNvSpPr/>
          <p:nvPr/>
        </p:nvSpPr>
        <p:spPr>
          <a:xfrm>
            <a:off x="287280" y="179280"/>
            <a:ext cx="792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216000" y="301680"/>
            <a:ext cx="96487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atriz impacto X Grau de incerte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92000" y="1403280"/>
          <a:ext cx="6985080" cy="4465800"/>
        </p:xfrm>
        <a:graphic>
          <a:graphicData uri="http://schemas.openxmlformats.org/drawingml/2006/table">
            <a:tbl>
              <a:tblPr/>
              <a:tblGrid>
                <a:gridCol w="3492720"/>
                <a:gridCol w="3492360"/>
              </a:tblGrid>
              <a:tr h="22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23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06" name="CaixaDeTexto 4"/>
          <p:cNvSpPr/>
          <p:nvPr/>
        </p:nvSpPr>
        <p:spPr>
          <a:xfrm>
            <a:off x="1079640" y="62690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rau de incerte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CaixaDeTexto 5"/>
          <p:cNvSpPr/>
          <p:nvPr/>
        </p:nvSpPr>
        <p:spPr>
          <a:xfrm rot="16200000">
            <a:off x="-2193120" y="36741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a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n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CaixaDeTexto 6"/>
          <p:cNvSpPr/>
          <p:nvPr/>
        </p:nvSpPr>
        <p:spPr>
          <a:xfrm>
            <a:off x="7920000" y="1835280"/>
            <a:ext cx="216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– Cliente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 – Concorr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 – Econôm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 – Tecnoló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–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 – Polí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 – Juríd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 – Fís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 – Disponibilidade do produ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Retângulo 7" descr=""/>
          <p:cNvPicPr/>
          <p:nvPr/>
        </p:nvPicPr>
        <p:blipFill>
          <a:blip r:embed="rId1"/>
          <a:stretch/>
        </p:blipFill>
        <p:spPr>
          <a:xfrm>
            <a:off x="4254480" y="1517760"/>
            <a:ext cx="798480" cy="664920"/>
          </a:xfrm>
          <a:prstGeom prst="rect">
            <a:avLst/>
          </a:prstGeom>
          <a:ln w="0">
            <a:noFill/>
          </a:ln>
        </p:spPr>
      </p:pic>
      <p:pic>
        <p:nvPicPr>
          <p:cNvPr id="110" name="Retângulo 9" descr=""/>
          <p:cNvPicPr/>
          <p:nvPr/>
        </p:nvPicPr>
        <p:blipFill>
          <a:blip r:embed="rId2"/>
          <a:stretch/>
        </p:blipFill>
        <p:spPr>
          <a:xfrm>
            <a:off x="3462480" y="1517760"/>
            <a:ext cx="798480" cy="664920"/>
          </a:xfrm>
          <a:prstGeom prst="rect">
            <a:avLst/>
          </a:prstGeom>
          <a:ln w="0">
            <a:noFill/>
          </a:ln>
        </p:spPr>
      </p:pic>
      <p:pic>
        <p:nvPicPr>
          <p:cNvPr id="111" name="Retângulo 10" descr=""/>
          <p:cNvPicPr/>
          <p:nvPr/>
        </p:nvPicPr>
        <p:blipFill>
          <a:blip r:embed="rId3"/>
          <a:stretch/>
        </p:blipFill>
        <p:spPr>
          <a:xfrm>
            <a:off x="4973760" y="1517760"/>
            <a:ext cx="798480" cy="664920"/>
          </a:xfrm>
          <a:prstGeom prst="rect">
            <a:avLst/>
          </a:prstGeom>
          <a:ln w="0">
            <a:noFill/>
          </a:ln>
        </p:spPr>
      </p:pic>
      <p:pic>
        <p:nvPicPr>
          <p:cNvPr id="112" name="Retângulo 11" descr=""/>
          <p:cNvPicPr/>
          <p:nvPr/>
        </p:nvPicPr>
        <p:blipFill>
          <a:blip r:embed="rId4"/>
          <a:stretch/>
        </p:blipFill>
        <p:spPr>
          <a:xfrm>
            <a:off x="3029040" y="4041720"/>
            <a:ext cx="799920" cy="658800"/>
          </a:xfrm>
          <a:prstGeom prst="rect">
            <a:avLst/>
          </a:prstGeom>
          <a:ln w="0">
            <a:noFill/>
          </a:ln>
        </p:spPr>
      </p:pic>
      <p:pic>
        <p:nvPicPr>
          <p:cNvPr id="113" name="Retângulo 12" descr=""/>
          <p:cNvPicPr/>
          <p:nvPr/>
        </p:nvPicPr>
        <p:blipFill>
          <a:blip r:embed="rId5"/>
          <a:stretch/>
        </p:blipFill>
        <p:spPr>
          <a:xfrm>
            <a:off x="2176560" y="4181400"/>
            <a:ext cx="779400" cy="665280"/>
          </a:xfrm>
          <a:prstGeom prst="rect">
            <a:avLst/>
          </a:prstGeom>
          <a:ln w="0">
            <a:noFill/>
          </a:ln>
        </p:spPr>
      </p:pic>
      <p:pic>
        <p:nvPicPr>
          <p:cNvPr id="114" name="Retângulo 13" descr=""/>
          <p:cNvPicPr/>
          <p:nvPr/>
        </p:nvPicPr>
        <p:blipFill>
          <a:blip r:embed="rId6"/>
          <a:stretch/>
        </p:blipFill>
        <p:spPr>
          <a:xfrm>
            <a:off x="1395360" y="4041720"/>
            <a:ext cx="757440" cy="658800"/>
          </a:xfrm>
          <a:prstGeom prst="rect">
            <a:avLst/>
          </a:prstGeom>
          <a:ln w="0">
            <a:noFill/>
          </a:ln>
        </p:spPr>
      </p:pic>
      <p:pic>
        <p:nvPicPr>
          <p:cNvPr id="115" name="Retângulo 14" descr=""/>
          <p:cNvPicPr/>
          <p:nvPr/>
        </p:nvPicPr>
        <p:blipFill>
          <a:blip r:embed="rId7"/>
          <a:stretch/>
        </p:blipFill>
        <p:spPr>
          <a:xfrm>
            <a:off x="2730600" y="1590840"/>
            <a:ext cx="823680" cy="658800"/>
          </a:xfrm>
          <a:prstGeom prst="rect">
            <a:avLst/>
          </a:prstGeom>
          <a:ln w="0">
            <a:noFill/>
          </a:ln>
        </p:spPr>
      </p:pic>
      <p:pic>
        <p:nvPicPr>
          <p:cNvPr id="116" name="Retângulo 15" descr=""/>
          <p:cNvPicPr/>
          <p:nvPr/>
        </p:nvPicPr>
        <p:blipFill>
          <a:blip r:embed="rId8"/>
          <a:stretch/>
        </p:blipFill>
        <p:spPr>
          <a:xfrm>
            <a:off x="4761000" y="4108320"/>
            <a:ext cx="798480" cy="665280"/>
          </a:xfrm>
          <a:prstGeom prst="rect">
            <a:avLst/>
          </a:prstGeom>
          <a:ln w="0">
            <a:noFill/>
          </a:ln>
        </p:spPr>
      </p:pic>
      <p:pic>
        <p:nvPicPr>
          <p:cNvPr id="117" name="Retângulo 16" descr=""/>
          <p:cNvPicPr/>
          <p:nvPr/>
        </p:nvPicPr>
        <p:blipFill>
          <a:blip r:embed="rId9"/>
          <a:stretch/>
        </p:blipFill>
        <p:spPr>
          <a:xfrm>
            <a:off x="5705640" y="1517760"/>
            <a:ext cx="634680" cy="66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16000" y="301680"/>
            <a:ext cx="96487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atriz Swo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79640" y="1403280"/>
          <a:ext cx="7921440" cy="496908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24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Força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ca conheci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a percepção de qual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hecimento do mercado n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resa reconhecidamente ét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portun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mento do poder de compra da popul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ior preocupação ética dos consumido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48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raquez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ção de marca de pouca sofistic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meaç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ada de marcas internacionais no mercado brasile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ência de “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umrizaçã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 no mercad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atriz importância X desempenh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79640" y="1403280"/>
          <a:ext cx="8353440" cy="4896000"/>
        </p:xfrm>
        <a:graphic>
          <a:graphicData uri="http://schemas.openxmlformats.org/drawingml/2006/table">
            <a:tbl>
              <a:tblPr/>
              <a:tblGrid>
                <a:gridCol w="2784240"/>
                <a:gridCol w="2784600"/>
                <a:gridCol w="2784600"/>
              </a:tblGrid>
              <a:tr h="16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63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6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ilidade do produ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24" name="CaixaDeTexto 4"/>
          <p:cNvSpPr/>
          <p:nvPr/>
        </p:nvSpPr>
        <p:spPr>
          <a:xfrm>
            <a:off x="1079640" y="6307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aix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ortâ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CaixaDeTexto 5"/>
          <p:cNvSpPr/>
          <p:nvPr/>
        </p:nvSpPr>
        <p:spPr>
          <a:xfrm rot="16200000">
            <a:off x="-2193120" y="36741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mpen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i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gu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lh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APs dos process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CaixaDeTexto 3"/>
          <p:cNvSpPr/>
          <p:nvPr/>
        </p:nvSpPr>
        <p:spPr>
          <a:xfrm>
            <a:off x="360360" y="1763640"/>
            <a:ext cx="93600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 principal GAP no processo é a disponibilidade do produto. O principal canal de vendas e o próprio modelo de negócio da Natura (venda direta) está desgast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 maneira de disponibilizar os produtos para os clientes de maneira mais rápida é o principal desafio para a empres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2" descr=""/>
          <p:cNvPicPr/>
          <p:nvPr/>
        </p:nvPicPr>
        <p:blipFill>
          <a:blip r:embed="rId1"/>
          <a:stretch/>
        </p:blipFill>
        <p:spPr>
          <a:xfrm>
            <a:off x="1655640" y="4356000"/>
            <a:ext cx="1866960" cy="2286000"/>
          </a:xfrm>
          <a:prstGeom prst="rect">
            <a:avLst/>
          </a:prstGeom>
          <a:ln w="0">
            <a:noFill/>
          </a:ln>
        </p:spPr>
      </p:pic>
      <p:sp>
        <p:nvSpPr>
          <p:cNvPr id="131" name="CaixaDeTexto 9"/>
          <p:cNvSpPr/>
          <p:nvPr/>
        </p:nvSpPr>
        <p:spPr>
          <a:xfrm>
            <a:off x="3887640" y="4716360"/>
            <a:ext cx="23050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75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4" descr="http://leotubarao.com.br/wp-content/uploads/2012/07/e-commerc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61080" y="3995640"/>
            <a:ext cx="330516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udança nos fatores-ch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CaixaDeTexto 3"/>
          <p:cNvSpPr/>
          <p:nvPr/>
        </p:nvSpPr>
        <p:spPr>
          <a:xfrm>
            <a:off x="360360" y="1979640"/>
            <a:ext cx="8496360" cy="51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300" spc="-1" strike="noStrike">
                <a:solidFill>
                  <a:srgbClr val="3333cc"/>
                </a:solidFill>
                <a:latin typeface="Arial"/>
              </a:rPr>
              <a:t>Disponibilidade de produto- 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om 1,2 milhão de consultoras no Brasil e um total de 1,5 milhão de consultoras no mundo, a Natura mantém uma loja em parceria com o portal Submarino.  A página tem uma área onde o internauta pode encontrar uma consultora. Mas quem prefere fazer o pedido e receber em casa, tem essa opção. Chegar até a loja, no entanto, não é tão fácil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 link na página oficial da Natura, por exemplo, direciona o internauta para uma página inexistente. A Natura confirma que não promove a loja online e diz que seu projeto de e-commerce seria a 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Rede Natura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, que está mais para uma rede social, onde o pedido também é efetuado por meio das consultoras da marca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ova Estratég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1547640"/>
            <a:ext cx="10080720" cy="541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Vantagens competitiv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CaixaDeTexto 3"/>
          <p:cNvSpPr/>
          <p:nvPr/>
        </p:nvSpPr>
        <p:spPr>
          <a:xfrm>
            <a:off x="719280" y="1692360"/>
            <a:ext cx="468144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191966"/>
                </a:solidFill>
                <a:latin typeface="Arial"/>
              </a:rPr>
              <a:t>Aumento das vend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191966"/>
                </a:solidFill>
                <a:latin typeface="Arial"/>
              </a:rPr>
              <a:t>Maior alcance de clien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191966"/>
                </a:solidFill>
                <a:latin typeface="Arial"/>
              </a:rPr>
              <a:t>Possibilidade de ampliação do publico alvo para outros segmentos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" descr="http://4.bp.blogspot.com/-62aMZieC1xs/UZ0lojigq0I/AAAAAAAACJc/JmDkUPVPlQ0/s1600/grafic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96000" y="1619280"/>
            <a:ext cx="486864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403280"/>
            <a:ext cx="10080720" cy="576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estão, tecnologia e pesso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tângulo 3"/>
          <p:cNvSpPr/>
          <p:nvPr/>
        </p:nvSpPr>
        <p:spPr>
          <a:xfrm>
            <a:off x="216000" y="1403280"/>
            <a:ext cx="95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http://exame.abril.com.br/negocios/noticias/natura-destaca-investimento-em-ti-e-crescimento-em-balan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tângulo 4"/>
          <p:cNvSpPr/>
          <p:nvPr/>
        </p:nvSpPr>
        <p:spPr>
          <a:xfrm>
            <a:off x="287280" y="2050920"/>
            <a:ext cx="9145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A empresa está entusiasmada com os resultados da Rede Natura, ramo de comércio eletrônico da marc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O site apresenta uma nova forma de se relacionar com a Natura e comprar com os consultores, já que cada um deles possui seu próprio "Espaço Natura" na interne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Hoje 35% das entregas online são atualmente feitas em até 48 horas, e o plano é expandir esse número para até 60 a 70% dos pedidos. Atende Campinas e São José dos Camp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200" spc="-1" strike="noStrike">
                <a:solidFill>
                  <a:srgbClr val="191966"/>
                </a:solidFill>
                <a:latin typeface="Arial"/>
              </a:rPr>
              <a:t>Além do investimento em TI, a empresa espera no médio-prazo ter não só a marca Natura, mas desenvolver outros projetos que se correlacionem. A rede pretende também ir além do ramo dos cosmétic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Mu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relação ao mercado mundial de HPPC (Higiene Pessoal, Perfumaria e Cosméticos) os dados da Euromonitor de 2012, os três principais paíse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dos Unidos  com 15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apão o segundo, com 10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rasil com com 9,6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2013 este setor cresceu mundialmente 1,4%, sendo que quatro dos dez maiores mercados França, Rússia, Itália e Alemanha) registraram queda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tângulo 3"/>
          <p:cNvSpPr/>
          <p:nvPr/>
        </p:nvSpPr>
        <p:spPr>
          <a:xfrm>
            <a:off x="503280" y="4427640"/>
            <a:ext cx="921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191966"/>
                </a:solidFill>
                <a:latin typeface="Arial"/>
              </a:rPr>
              <a:t>Ainda dentro das expectativas para 2014, há o plano de retomar as lojas-conceito, como a da rua Oscar Freire, como exposição da marca e não para negócio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500" spc="-1" strike="noStrike">
                <a:solidFill>
                  <a:srgbClr val="191966"/>
                </a:solidFill>
                <a:latin typeface="Arial"/>
              </a:rPr>
              <a:t>Falando de preços, o executivo afirmou que o reajuste será de 5%, sem previsão ainda de que existam outros. A Natura estima investimentos de 500 milhões de reais nesse ano (2014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3311640" y="1763640"/>
            <a:ext cx="280800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503280" y="301680"/>
            <a:ext cx="90676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ferência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503280" y="1768320"/>
            <a:ext cx="9067680" cy="74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kantarworldpanel.com/br/Releases/news-articles/Olho-no-porta-a-por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bope.com.br/pt-br/noticias/Paginas/Cresce-o-consumo-de-maquiagem-entre-as-brasileiras.asp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exame.abril.com.br/negocios/noticias/m-a-c-quer-dobrar-de-tamanho-no-brasil-em-tres-an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www.cosmeticanews.com.br/leitura.php?n=atualidade-cosmetica-promove-evento-sobre-o-mercado-de-maquiagem-no-brasil&amp;id=465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1.folha.uol.com.br/mercado/2013/05/1280706-sob-ataque-de-rivais-natura-sinaliza-mudancas.s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.cosmeticosbr.com.br/conteudo/materias/materia.asp?id=3298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tura é campeã em construção de marc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://exame.abril.com.br/marketing/noticias/natura-e-campea-em-construcao-de-marca-veja-lista#2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Natura é a empresa com melhor estratégia de construção de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arc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branding), de acordo com pesquisa do Centro de Inteligência Padrão (CIP), consultoria que faz levantamentos ligados ao mercado do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onsum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levantamento leva em consideração o quanto conhecida é a marca ou empresa e qual a sua 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image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considerando os quesitos: amor, preferência dos jovens, reputação e respeito. A consultoria escolheu 15 diferentes setores e considerou empresas brasileiras e internacionais para cada 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tor: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sméticos, higiene pessoal e perfumaria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brasileira não apenas liderou no setor de beleza e higiene como teve melhor desempenho geral, de acordo com a consultoria. Eleita como a marca mais valiosa do varejo brasileiro em 2013 pela Interbrand, a Natura investiu nas ideias de sustentabilidade e brasilidade para reforçar sua imagem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xame.abril.com.br/negocios/noticias/natura-destaca-investimento-em-ti-e-crescimento-em-balanco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12/02/2014 20:37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atura vai expandir site, mas manterá crença porta a port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apresenta uma nova forma de se relacionar com a Natura e comprar com os consultores, já que cada um deles possui seu próprio "Espaço Natura" na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arca continuará seguindo suas raízes de integração entre consultor e cliente, já que a Rede Natura seria uma maneira de integrar o consumidor diretamente no processo de escolha e comp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5% das entregas online são atualmente feitas em até 48 horas, e o plano é expandir esse número para até 60 a 70% dos ped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capacidade logística da Natura poderia elevar o número até 90%, mas, essa meta não valeria a pena considerando-se custos envolv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pocanegocios.globo.com/busca/?q=O%20DILEMA%20DO%20E-COMMERCE%20PARA%20NATURA,%20AVON%20E%20O%20BOTIC%C3%81RI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0/08/2013 - POR DANIELA ALMEIDA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DILEMA DO E-COMMERCE PARA NATURA, AVON E O BOTICÁRI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stratégia de negócios de O Boticário é sempre em parceria com os nossos franqueados", afirmou Osvaldo Moscon, diretor de Desenvolvimento de Canais e Franchising de O Boticário por meio de email. "Por isso, todas as iniciativas são concretizadas em conjunto com eles, por exemplo, o e-commerce. A presença no comércio online vem da necessidade de estarmos presentes em vários canais e cada vez mais perto do consumidor. E, justamente por isso, o formato de vendas virtual não anula os outros, mas complementa. Afinal, muitos consumidores entram online para conhecer produtos, buscar informações e compram em lojas físicas. Além disso, o diferencial entre os modelos está na experiência - enquanto o e-commerce oferece a praticidade, fácil acesso e outras vantagens no que diz respeito ao consumo, já a vivência e experimentação dos produtos na loja é insubstituível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etor de franquias, modelo de negócios de O Boticário, vem crescendo em ritmo intenso e encerrou 2012 com aumento de 16,2% no faturamento. Ao todo, as redes movimentaram R$ 103,3 bilhões, frente aos mais de R$ 88,8 bilhões de 2011. Já a venda direta, modelo adotado por outras duas gigantes, Avon e Natura, fechou 2011 com um volume de R$ 27,2 bilhões, segundo a Associação Brasileira de Empresas de Vendas Diretas (ABEVD). Em 2010 foram R$ 25,8 bilhões (os dados de 2012 ainda não foram divulgados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enda direta representa um desafio para Avon e Natura, que têm em suas representantes e consultoras a base de seu negócio – e não trabalham com franquias. O e-commerce poderia ser uma saída, não representasse um risco ao principal canal de vendas das companh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Avon, que tem no Brasil uma das suas principais operações em faturamento, mantém um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 que funciona como folheto onlin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no qual é possível criar uma lista e enviar para uma revendedora de preferência, ou encontrar por meio de uma ferramenta com CEP, a representante mais próxima. Comprar e receber em casa, como um bom e tradicional site de e-commerce, não é possível. A empresa lançou, ainda, em outubro do ano passado, um aplicativo para iPad que é, na verdade, um catálogo. Assim como a página da empresa na internet, é possível colocar produtos em uma cesta, mas o pedido final é encaminhado a uma revendedora Avon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comunicado oficial enviado à 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poca NEGÓC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 empresa afirmou acreditar “que o relacionamento é o principal elo do negócio da venda direta, por isso o e-commerce deve sempre estar associado ao trabalho das revendedoras”. Para bom entendedor, e-commerce sem revendedora, n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1,2 milhão de consultoras no Brasil e um total de 1,5 milhão de consultoras no mundo, a Natura mantém um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loja em parceria com o portal Submarin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A página tem uma área onde o internauta pode encontrar uma consultora. Mas quem prefere fazer o pedido e receber em casa, tem essa opção. Chegar até a loja, no entanto, não é tão fácil. O link na página oficial da Natura, por exemplo, direciona o internauta para uma página inexistente. A Natura confirma que não promove a loja online e diz que seu projeto de e-commerce seria 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Rede Natu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que está mais para uma rede social, onde o pedido também é efetuado por meio das consultoras da marca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Vislumbramos um futuro no qual a relação entre consultoras e consumidores será ainda mais estreita e apoiada por alta tecnologia de informação e pelas redes sociais”, afirmou a Natura, por meio de um comun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27/01/2014 16:1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.A.C quer dobrar de tamanho no Brasil em três ano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exame.abril.com.br/negocios/noticias/m-a-c-quer-dobrar-de-tamanho-no-brasil-em-tres-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.A.C vai inaugurar seu serviço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no Brasil. A jogada é uma das estratégias adotadas pela grife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aquiage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para dobrar seus negócios no Brasil em três a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ém de investir na internet, a marca da gigante d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da Estée Lauder pretende, até 2016, dobrar o número de lojas físicas no país, que hoje estão perto de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a primeira vez na história da marca que baixamos os preços, o que mostra como o Brasil é importante para nós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6912000" y="3887640"/>
            <a:ext cx="3168720" cy="367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Bras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03280" y="1698480"/>
            <a:ext cx="90709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Brasil representa 9,6% do mercado de cosméticos no mundo, sendo que a divisão das categorias mais representativa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primeiro: perfumaria e desodorante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segundo:  produtos para cabelos, produtos para higiene oral, produtos para os públicos masculino e infantil e proteção sola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terceiro: maquiagem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quarto: depilatórios e produtos para a pele (ABIHPEC, 201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92000" y="4032360"/>
            <a:ext cx="604836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isão do presidente da Abihpec, João Carlos Basilio, é sobre o crescimento consecutivo deste setor acima dos dois dígitos nos últimos 17 anos: “Entre eles, o aumento da expectativa de vida, a expansão da classe C, a modernização das fábricas e os ganhos de tecnologia e consequente produtividade”. Basílio também ressaltou a importância dos investimentos da indústria em inovação e P&amp;D: “Foram R$13,6 bilhões em Ativos, Pesquisa e Desenvolvimento e Fortalecimento de Marcas, um total 18% maior que em 2011. Em quatro anos dobramos os investimentos de R$6,6 milhões a R$13.6 milhões. São investimentos forte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759280" y="1440000"/>
            <a:ext cx="4319640" cy="5903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16000" y="2554200"/>
            <a:ext cx="468000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dados do Target Group Index (IBOPE Media) o consumo de maquiagem no Brasil tem aumentado em todas as classes socioeconômicas, principais capitais e regiões metropolitanas do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acordo com a consultoria Euromonitor, a categoria movimentou no Brasil US$ 2.6 bilhões em 2012, posicionando o País como o terceiro maior do mun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5904000" y="1368360"/>
            <a:ext cx="3889440" cy="60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pesquisas da Kanthar World Panel, as mulheres brasileiras estão se maquiando com mais frequência e demandando produtos de maior qualidade. Além disso, apenas metade destas mulheres usam maquiag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ante destes dados é possível entender o grande investimento das empresas nacionais em novas linhas e na renovação das linhas antigas, bem como a grande movimentação de marcas internaciona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7240" y="2087640"/>
            <a:ext cx="57751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92000" y="2081160"/>
            <a:ext cx="6480360" cy="209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71280" y="1258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mundo a maquiagem é a terceira categoria em crescimento de vendas no período de 2001 a 200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44360" y="4282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Brasil, o mercado de maquiagem apresenta grande crescimento, mas ainda  perde para outros produtos como tratamento para cabelos e pe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936720" y="5111640"/>
            <a:ext cx="71992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77800" y="165564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dústria cosmética nacional fundada em 1969 por Luiz Seabra como a Indústria e Comércio de Cosméticos Berjeaout Ltda em sociedade com Jean Pierre Berjeaout, que viria a se chamar Natura em poucos meses, devido à participação de ativos vegetais na composição dos produ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 2009, ao completar 40 anos, atingiu a marca histórica d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1 milhão de consultoras e consultor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oje conta com mais de 20 marcas, entre produtos para cabelo, pele, maquiagem, perfumaria dentre outros.</a:t>
            </a: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920880" y="4214880"/>
            <a:ext cx="8080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mercado de cosmét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atratividade do crescimento deste mercado faz com que sempre haja novos entrantes, nacionais e internacionais, em todos os canais de venda – varejo, franquia e vendas dire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 entanto, mesmo com todo dinamismo apenas 6 empresas detém 52% do mercado to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232000" y="3527280"/>
            <a:ext cx="46800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16000" y="1827360"/>
            <a:ext cx="9431280" cy="479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18:38:33Z</dcterms:created>
  <dc:creator>Daniela Santos Ferreira</dc:creator>
  <dc:description/>
  <dc:language>en-US</dc:language>
  <cp:lastModifiedBy>Ubiara</cp:lastModifiedBy>
  <dcterms:modified xsi:type="dcterms:W3CDTF">2014-04-02T02:00:19Z</dcterms:modified>
  <cp:revision>41</cp:revision>
  <dc:subject/>
  <dc:title>Natura – linha de maquiagem</dc:title>
</cp:coreProperties>
</file>