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8B8D-021D-48E1-9152-315C5FCECCC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A7E60-9024-4B83-8233-5201301DEBB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2CAA8-ADC9-440E-9819-46D6DC7FBD4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C93AB-8DF9-476B-BDEF-56577B9D28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5A7BE-5388-4BED-BFB7-D3988C9A225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BA7F9-4E95-45FB-9DC3-B8C9C499F73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D96C2-A5F9-4D88-96E8-5714D7C328D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83376-541C-429A-BD3C-53142C42373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E3737-91C4-4510-9E3A-52918EC4808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FA432-96BE-4D6E-A5B5-D3DD0F1A393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D4BB2-6DE6-41EF-AF09-01A4CD6ED0C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E5CF9-ADF2-4AAF-93CC-1680CBCD046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C6735-1010-43E7-99F6-71FDC684E3C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6A6EC-818E-48C0-8F0A-9CAB5C8FD73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44A16-8878-4F7C-8749-93EB4391B45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1B21D-A487-4420-8127-5454574F14B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9D402-E08B-43D4-BC96-57DC991251E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6B744-011C-4CF9-A325-7387E8DC022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AD6B6-A841-48D3-BFB4-DFD53EAEABB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AA3D0-2D0E-42BF-8494-C49BA1B8BC5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2E779-053B-479A-8C32-DD51C189B8F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EAA2F-493D-49C2-ACD4-85BC6EC9711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601B-C6AC-4040-8B52-19773223E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A861-96FB-45AF-B788-4F667B72D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FC83-7C30-4B5E-AA7B-F0C1D1C8B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9A41-6CA3-4B37-A69A-D293A284B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12A7-2F98-48B2-BA49-6F70BECA5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BBA0-C700-41FD-8AAB-A8C0FCAA0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7C9B-FBBF-47FB-A6FC-71DC8C984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485D-354A-415A-8B89-E6B1446EF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FA429-56CC-4CD1-AECD-C8970BEEF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863A-3E7B-4E1A-A773-B6817F1D4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40FF1-224E-4ABA-A60C-AA3611137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1534-5F9E-469B-8B79-81A34A5BE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49324-78F7-457B-891A-084BE00068B9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DD</cp:lastModifiedBy>
  <dcterms:modified xsi:type="dcterms:W3CDTF">2014-03-10T19:32:36Z</dcterms:modified>
  <cp:revision>18</cp:revision>
  <dc:subject/>
  <dc:title>Natura – linha de maquiagem</dc:title>
</cp:coreProperties>
</file>