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C12C6-01C2-4228-86AC-B5860DD1773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A6ED9-DEC7-48EB-8454-B574D1D5313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4D010-3211-4AB8-8E46-1B00DEA3DF9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9DBCF-7655-4C3F-ABD6-99832CC6E78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110A9-B3E3-437F-B894-986F3B199C1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F9710-F525-4945-8CC2-D280B1F17D2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C51BD-3F50-4546-A1BA-BDEBF584C1B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16C08-DC27-48BA-BCCB-A18679B5FCC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01E5E-FF0C-45F6-B634-A354274C8A3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A2D9D-1A84-43FF-985E-B094B71B1D5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8BCC7-1E71-4835-9757-E94E37848F3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5C3CB-2604-48F9-BCFD-0B8481CF2AE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FE121-AE57-4462-8D18-FB8BB4DCA670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28AED-E5CE-4780-A8AB-AB0811A8482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23484-CA32-4837-A829-774BC6058CF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74158-25CB-46C3-88D0-B86F7A3DBB9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3F5F6-DE36-40DF-BA48-96A31D3DEAD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2ED29-DF60-43F3-BAD0-2B7AD784F4C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38286-AAF7-4DB3-982C-A7484946D6F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DAED0-1EC9-46C1-A0E2-63BF48A745F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8587F-87E8-466C-8DE7-496F3C8B5DC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14106-8793-4F72-9DA5-5205CF597E2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C3EC-B339-4C52-98B2-00965017B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DB15-B0DE-4AFE-8A5F-AF41FB4BFF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16F0-8C48-45E0-920B-7D2B776C6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18B9-AD70-4F7E-9C58-DA227A720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F861-2C31-4A3E-9A67-83F468E5DE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C25F-F1CE-4CAF-B2A9-4FD207134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A789-DB7C-47A4-9DA7-5767F1658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4A0A-BF96-47EF-B49A-045B60BD5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5DFF-ED9D-4E4A-9E56-79347FB05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3711-32E1-475C-8C21-DADCF2230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CE74-1796-4810-8477-CE00D0A9D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575E-E606-4F91-8646-8952EB2E2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2BE4B-619E-4E09-AC79-2366C4B3053C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antarworldpanel.com/br/Releases/news-articles/Olho-no-porta-a-porta" TargetMode="External"/><Relationship Id="rId2" Type="http://schemas.openxmlformats.org/officeDocument/2006/relationships/hyperlink" Target="http://www.ibope.com.br/pt-br/noticias/Paginas/Cresce-o-consumo-de-maquiagem-entre-as-brasileiras.aspx" TargetMode="External"/><Relationship Id="rId3" Type="http://schemas.openxmlformats.org/officeDocument/2006/relationships/hyperlink" Target="http://exame.abril.com.br/negocios/noticias/m-a-c-quer-dobrar-de-tamanho-no-brasil-em-tres-anos" TargetMode="External"/><Relationship Id="rId4" Type="http://schemas.openxmlformats.org/officeDocument/2006/relationships/hyperlink" Target="http://www.cosmeticanews.com.br/leitura.php?n=atualidade-cosmetica-promove-evento-sobre-o-mercado-de-maquiagem-no-brasil&amp;id=465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xame.com.br/topicos/marcas" TargetMode="External"/><Relationship Id="rId2" Type="http://schemas.openxmlformats.org/officeDocument/2006/relationships/hyperlink" Target="http://www.exame.com.br/topicos/consumo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de maquiagem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343640" y="6119640"/>
            <a:ext cx="223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gia J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iela Ferr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ise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iara Marfin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ANVAS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991640" y="2016000"/>
            <a:ext cx="1439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7280" y="619128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03280" y="1768320"/>
            <a:ext cx="906768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ntarworldpanel.com/br/Releases/news-articles/Olho-no-porta-a-por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bope.com.br/pt-br/noticias/Paginas/Cresce-o-consumo-de-maquiagem-entre-as-brasileiras.asp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xame.abril.com.br/negocios/noticias/m-a-c-quer-dobrar-de-tamanho-no-brasil-em-tres-an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www.cosmeticanews.com.br/leitura.php?n=atualidade-cosmetica-promove-evento-sobre-o-mercado-de-maquiagem-no-brasil&amp;id=465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1.folha.uol.com.br/mercado/2013/05/1280706-sob-ataque-de-rivais-natura-sinaliza-mudancas.s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.cosmeticosbr.com.br/conteudo/materias/materia.asp?id=329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a é campeã em construção de marc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exame.abril.com.br/marketing/noticias/natura-e-campea-em-construcao-de-marca-veja-lista#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a é a empresa com melhor estratégia de construção de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r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anding), de acordo com pesquisa do Centro de Inteligência Padrão (CIP), consultoria que faz levantamentos ligados ao mercado do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evantamento leva em consideração o quanto conhecida é a marca ou empresa e qual a su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m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siderando os quesitos: amor, preferência dos jovens, reputação e respeito. A consultoria escolheu 15 diferentes setores e considerou empresas brasileiras e internacionais para cada 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or: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méticos, higiene pessoal e perfumaria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rasileira não apenas liderou no setor de beleza e higiene como teve melhor desempenho geral, de acordo com a consultoria. Eleita como a marca mais valiosa do varejo brasileiro em 2013 pela Interbrand, a Natura investiu nas ideias de sustentabilidade e brasilidade para reforçar sua imagem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xame.abril.com.br/negocios/noticias/natura-destaca-investimento-em-ti-e-crescimento-em-balanco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12/02/2014 20:37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tura vai expandir site, mas manterá crença porta a por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apresenta uma nova forma de se relacionar com a Natura e comprar com os consultores, já que cada um deles possui seu próprio "Espaço Natura" n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rca continuará seguindo suas raízes de integração entre consultor e cliente, já que a Rede Natura seria uma maneira de integrar o consumidor diretamente no processo de escolha e comp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5% das entregas online são atualmente feitas em até 48 horas, e o plano é expandir esse número para até 60 a 70% dos p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logística da Natura poderia elevar o número até 90%, mas, essa meta não valeria a pena considerando-se cust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pocanegocios.globo.com/busca/?q=O%20DILEMA%20DO%20E-COMMERCE%20PARA%20NATURA,%20AVON%20E%20O%20BOTIC%C3%81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0/08/2013 - POR DANIELA ALMEIDA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LEMA DO E-COMMERCE PARA NATURA, AVON E O BOTICÁR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stratégia de negócios de O Boticário é sempre em parceria com os nossos franqueados", afirmou Osvaldo Moscon, diretor de Desenvolvimento de Canais e Franchising de O Boticário por meio de email. "Por isso, todas as iniciativas são concretizadas em conjunto com eles, por exemplo, o e-commerce. A presença no comércio online vem da necessidade de estarmos presentes em vários canais e cada vez mais perto do consumidor. E, justamente por isso, o formato de vendas virtual não anula os outros, mas complementa. Afinal, muitos consumidores entram online para conhecer produtos, buscar informações e compram em lojas físicas. Além disso, o diferencial entre os modelos está na experiência - enquanto o e-commerce oferece a praticidade, fácil acesso e outras vantagens no que diz respeito ao consumo, já a vivência e experimentação dos produtos na loja é insubstituível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tor de franquias, modelo de negócios de O Boticário, vem crescendo em ritmo intenso e encerrou 2012 com aumento de 16,2% no faturamento. Ao todo, as redes movimentaram R$ 103,3 bilhões, frente aos mais de R$ 88,8 bilhões de 2011. Já a venda direta, modelo adotado por outras duas gigantes, Avon e Natura, fechou 2011 com um volume de R$ 27,2 bilhões, segundo a Associação Brasileira de Empresas de Vendas Diretas (ABEVD). Em 2010 foram R$ 25,8 bilhões (os dados de 2012 ainda não foram divulgados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nda direta representa um desafio para Avon e Natura, que têm em suas representantes e consultoras a base de seu negócio – e não trabalham com franquias. O e-commerce poderia ser uma saída, não representasse um risco ao principal canal de vendas das companh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von, que tem no Brasil uma das suas principais operações em faturamento, mantém um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 que funciona como folheto on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o qual é possível criar uma lista e enviar para uma revendedora de preferência, ou encontrar por meio de uma ferramenta com CEP, a representante mais próxima. Comprar e receber em casa, como um bom e tradicional site de e-commerce, não é possível. A empresa lançou, ainda, em outubro do ano passado, um aplicativo para iPad que é, na verdade, um catálogo. Assim como a página da empresa na internet, é possível colocar produtos em uma cesta, mas o pedido final é encaminhado a uma revendedora Avon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omunicado oficial enviado à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poca NEGÓ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 empresa afirmou acreditar “que o relacionamento é o principal elo do negócio da venda direta, por isso o e-commerce deve sempre estar associado ao trabalho das revendedoras”. Para bom entendedor, e-commerce sem revendedora, n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oja em parceria com o portal Submari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A página tem uma área onde o internauta pode encontrar uma consultora. Mas quem prefere fazer o pedido e receber em casa, tem essa opção. Chegar até a loja, no entanto, não é tão fácil. O link na página oficial da Natura, por exemplo, direciona o internauta para uma página inexistente. A Natura confirma que não promove a loja online e diz que seu projeto de e-commerce seria 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Vislumbramos um futuro no qual a relação entre consultoras e consumidores será ainda mais estreita e apoiada por alta tecnologia de informação e pelas redes sociais”, afirmou a Natura, por meio de um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27/01/2014 16:1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.A.C quer dobrar de tamanho no Brasil em três an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exame.abril.com.br/negocios/noticias/m-a-c-quer-dobrar-de-tamanho-no-brasil-em-tres-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.A.C vai inaugurar seu serviço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no Brasil. A jogada é uma das estratégias adotadas pela grife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qui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para dobrar seus negócios no Brasil em três 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e investir na internet, a marca da gigante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da Estée Lauder pretende, até 2016, dobrar o número de lojas físicas no país, que hoje estão perto d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primeira vez na história da marca que baixamos os preços, o que mostra como o Brasil é importante para nó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elação ao mercado mundial de HPPC (Higiene Pessoal, Perfumaria e Cosméticos) os dados da Euromonitor de 2012, os três principais paíse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Unidos  com 15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pão o segundo, com 10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sil com com 9,6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13 este setor cresceu mundialmente 1,4%, sendo que quatro dos dez maiores mercados França, Rússia, Itália e Alemanha) registraram que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912000" y="3887640"/>
            <a:ext cx="316872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698480"/>
            <a:ext cx="9070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rasil representa 9,6% do mercado de cosméticos no mundo, sendo que a divisão das categorias mais representativa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rimeiro: perfumaria e desodorant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ndo:  produtos para cabelos, produtos para higiene oral, produtos para os públicos masculino e infantil e proteção sola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ceiro: maquiag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rto: depilatórios e produtos para a pele (ABIHPEC, 201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92000" y="4032360"/>
            <a:ext cx="6048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isão do presidente da Abihpec, João Carlos Basilio, é sobre o crescimento consecutivo deste setor acima dos dois dígitos nos últimos 17 anos: “Entre eles, o aumento da expectativa de vida, a expansão da classe C, a modernização das fábricas e os ganhos de tecnologia e consequente produtividade”. Basílio também ressaltou a importância dos investimentos da indústria em inovação e P&amp;D: “Foram R$13,6 bilhões em Ativos, Pesquisa e Desenvolvimento e Fortalecimento de Marcas, um total 18% maior que em 2011. Em quatro anos dobramos os investimentos de R$6,6 milhões a R$13.6 milhões. São investimentos forte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59280" y="1440000"/>
            <a:ext cx="4319640" cy="59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6000" y="2554200"/>
            <a:ext cx="4680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Target Group Index (IBOPE Media) o consumo de maquiagem no Brasil tem aumentado em todas as classes socioeconômicas, principais capitais e regiões metropolitanas do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consultoria Euromonitor, a categoria movimentou no Brasil US$ 2.6 bilhões em 2012, posicionando o País como o terceiro maior do mun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904000" y="1368360"/>
            <a:ext cx="388944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squisas da Kanthar World Panel, as mulheres brasileiras estão se maquiando com mais frequência e demandando produtos de maior qualidade. Além disso, apenas metade destas mulheres usam maquiag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nte destes dados é possível entender o grande investimento das empresas nacionais em novas linhas e na renovação das linhas antigas, bem como a grande movimentação de marcas internacion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240" y="2087640"/>
            <a:ext cx="57751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2000" y="2081160"/>
            <a:ext cx="648036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1280" y="1258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mundo a maquiagem é a terceira categoria em crescimento de vendas no período de 2001 a 20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360" y="4282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Brasil, o mercado de maquiagem apresenta grande crescimento, mas ainda  perde para outros produtos como tratamento para cabelos e p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936720" y="5111640"/>
            <a:ext cx="7199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7800" y="165564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ústria cosmética nacional fundada em 1969 por Luiz Seabra como a Indústria e Comércio de Cosméticos Berjeaout Ltda em sociedade com Jean Pierre Berjeaout, que viria a se chamar Natura em poucos meses, devido à participação de ativos vegetais na composição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2009, ao completar 40 anos, atingiu a marca histórica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 milhão de consultoras e consultor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je conta com mais de 20 marcas, entre produtos para cabelo, pele, maquiagem, perfumaria dentre outros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20880" y="4214880"/>
            <a:ext cx="8080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mercado de cosmé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tratividade do crescimento deste mercado faz com que sempre haja novos entrantes, nacionais e internacionais, em todos os canais de venda – varejo, franquia e vendas dire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mesmo com todo dinamismo apenas 6 empresas detém 52% do mercado to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6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Daniela Santos Ferreira</dc:creator>
  <dc:description/>
  <dc:language>en-US</dc:language>
  <cp:lastModifiedBy>DD</cp:lastModifiedBy>
  <dcterms:modified xsi:type="dcterms:W3CDTF">2014-03-10T19:32:36Z</dcterms:modified>
  <cp:revision>18</cp:revision>
  <dc:subject/>
  <dc:title>Natura – linha de maquiagem</dc:title>
</cp:coreProperties>
</file>