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A3D78-432E-462F-AE4A-48F3C03D341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E4E55-143C-4760-8E16-21E79AB2C76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00316-CC48-45D1-9800-2A2969C4110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74DDA-5890-432C-A0FE-2B42B220E89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DDD43-397E-4E5A-8A66-726C31D6354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0AC22-ED9B-48EF-9B2C-A65534A25C1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BC3B1-5E7B-43DC-A340-24380F27FCF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E4BEF-9293-4B95-8439-C1942972ABA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B6264-0264-4C75-B3F1-211C3E24DDB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FD795-A05C-42B4-9A21-2C705C80074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C842D-632F-4AB9-80F0-38E2A3649D9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96264-54DE-4548-BC81-9AB107F62D9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6A184-4FB5-4441-804D-4D1DC5A2D69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642F6-3B52-4B96-8DF4-BC433A8B852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F40EB-9E76-4C4F-8FA0-53EB901A02B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9AC8B-22DD-439A-B818-A5307849607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24FE6-0620-4809-867E-8DE752245E9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CE82C-C361-417B-878A-296BDB52457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6F14D-0251-4AEA-9E06-45ED78307A9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25939-2D7E-46D2-8FA9-EEBCFC6E974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8CC87-A395-4561-A4F5-E503DE72C2E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D866B-7579-4496-8E97-A572F08CB96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2C84-9E6B-461B-88ED-A92C71050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AA9D-E682-436E-AE21-EFCE27A5D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3EAB-8741-4149-AEC5-6A8442628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8A97-4226-4592-904E-AA2D2F024B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7737-0D1F-4107-B200-34A2F09851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83C1-966F-4BFE-8A50-C74FE3D45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9682-759D-4EE8-8FF1-BC0B50914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A93E-58A9-46D4-8113-7DCE18062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5A92-2650-4917-8088-FB14BCC20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E0EB-5456-4BE0-AC3C-DA810D181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63BA-8B7A-4618-B1CE-9A46C7929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9F56-2A46-4824-AF57-A78B12218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94186-5EC1-42F6-ABFD-D244E1F91A89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antarworldpanel.com/br/Releases/news-articles/Olho-no-porta-a-porta" TargetMode="External"/><Relationship Id="rId2" Type="http://schemas.openxmlformats.org/officeDocument/2006/relationships/hyperlink" Target="http://www.ibope.com.br/pt-br/noticias/Paginas/Cresce-o-consumo-de-maquiagem-entre-as-brasileiras.aspx" TargetMode="External"/><Relationship Id="rId3" Type="http://schemas.openxmlformats.org/officeDocument/2006/relationships/hyperlink" Target="http://exame.abril.com.br/negocios/noticias/m-a-c-quer-dobrar-de-tamanho-no-brasil-em-tres-anos" TargetMode="External"/><Relationship Id="rId4" Type="http://schemas.openxmlformats.org/officeDocument/2006/relationships/hyperlink" Target="http://www.cosmeticanews.com.br/leitura.php?n=atualidade-cosmetica-promove-evento-sobre-o-mercado-de-maquiagem-no-brasil&amp;id=465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xame.com.br/topicos/marcas" TargetMode="External"/><Relationship Id="rId2" Type="http://schemas.openxmlformats.org/officeDocument/2006/relationships/hyperlink" Target="http://www.exame.com.br/topicos/consumo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de maquiagem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343640" y="6119640"/>
            <a:ext cx="2232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gia J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niela Ferr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ise Rodri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biara Marfin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9792000" cy="626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ANVAS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991640" y="2016000"/>
            <a:ext cx="1439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úblico feminino adolescente e adulto das  Classes B 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56360" y="6195960"/>
            <a:ext cx="3671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e produtos via consultoras (venda dire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7280" y="6191280"/>
            <a:ext cx="367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&amp;D 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bricação e Distribu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032360" y="2092320"/>
            <a:ext cx="1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M ESTAR B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alorizar a beleza existente em toda mul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Relação custo benefí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ratamento cosmético junto com maqui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832360" y="1909800"/>
            <a:ext cx="216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ção é a base modelo do negócio: consultoras conhecem produtos e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904000" y="3803760"/>
            <a:ext cx="1944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i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cion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onfiança com o cliente final através da consul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87640" y="1932120"/>
            <a:ext cx="19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ção ,  distribuição e venda de cosm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4360" y="1728720"/>
            <a:ext cx="180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ornecedores de insumos e embala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munidades que fornecem insumos sustentáve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nsultoras de negó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160720" y="410364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ornecedores qualific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- Consultor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erceiros (fabricação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&amp;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03280" y="1768320"/>
            <a:ext cx="9067680" cy="74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antarworldpanel.com/br/Releases/news-articles/Olho-no-porta-a-por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bope.com.br/pt-br/noticias/Paginas/Cresce-o-consumo-de-maquiagem-entre-as-brasileiras.asp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xame.abril.com.br/negocios/noticias/m-a-c-quer-dobrar-de-tamanho-no-brasil-em-tres-an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www.cosmeticanews.com.br/leitura.php?n=atualidade-cosmetica-promove-evento-sobre-o-mercado-de-maquiagem-no-brasil&amp;id=465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1.folha.uol.com.br/mercado/2013/05/1280706-sob-ataque-de-rivais-natura-sinaliza-mudancas.s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.cosmeticosbr.com.br/conteudo/materias/materia.asp?id=329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tura é campeã em construção de marc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exame.abril.com.br/marketing/noticias/natura-e-campea-em-construcao-de-marca-veja-lista#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atura é a empresa com melhor estratégia de construção de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arc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randing), de acordo com pesquisa do Centro de Inteligência Padrão (CIP), consultoria que faz levantamentos ligados ao mercado do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levantamento leva em consideração o quanto conhecida é a marca ou empresa e qual a su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im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siderando os quesitos: amor, preferência dos jovens, reputação e respeito. A consultoria escolheu 15 diferentes setores e considerou empresas brasileiras e internacionais para cada 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or: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méticos, higiene pessoal e perfumaria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brasileira não apenas liderou no setor de beleza e higiene como teve melhor desempenho geral, de acordo com a consultoria. Eleita como a marca mais valiosa do varejo brasileiro em 2013 pela Interbrand, a Natura investiu nas ideias de sustentabilidade e brasilidade para reforçar sua imagem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xame.abril.com.br/negocios/noticias/natura-destaca-investimento-em-ti-e-crescimento-em-balanco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12/02/2014 20:37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atura vai expandir site, mas manterá crença porta a port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apresenta uma nova forma de se relacionar com a Natura e comprar com os consultores, já que cada um deles possui seu próprio "Espaço Natura" n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rca continuará seguindo suas raízes de integração entre consultor e cliente, já que a Rede Natura seria uma maneira de integrar o consumidor diretamente no processo de escolha e comp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5% das entregas online são atualmente feitas em até 48 horas, e o plano é expandir esse número para até 60 a 70% dos p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apacidade logística da Natura poderia elevar o número até 90%, mas, essa meta não valeria a pena considerando-se custos envolv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pocanegocios.globo.com/busca/?q=O%20DILEMA%20DO%20E-COMMERCE%20PARA%20NATURA,%20AVON%20E%20O%20BOTIC%C3%81RI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0/08/2013 - POR DANIELA ALMEIDA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DILEMA DO E-COMMERCE PARA NATURA, AVON E O BOTICÁR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stratégia de negócios de O Boticário é sempre em parceria com os nossos franqueados", afirmou Osvaldo Moscon, diretor de Desenvolvimento de Canais e Franchising de O Boticário por meio de email. "Por isso, todas as iniciativas são concretizadas em conjunto com eles, por exemplo, o e-commerce. A presença no comércio online vem da necessidade de estarmos presentes em vários canais e cada vez mais perto do consumidor. E, justamente por isso, o formato de vendas virtual não anula os outros, mas complementa. Afinal, muitos consumidores entram online para conhecer produtos, buscar informações e compram em lojas físicas. Além disso, o diferencial entre os modelos está na experiência - enquanto o e-commerce oferece a praticidade, fácil acesso e outras vantagens no que diz respeito ao consumo, já a vivência e experimentação dos produtos na loja é insubstituível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etor de franquias, modelo de negócios de O Boticário, vem crescendo em ritmo intenso e encerrou 2012 com aumento de 16,2% no faturamento. Ao todo, as redes movimentaram R$ 103,3 bilhões, frente aos mais de R$ 88,8 bilhões de 2011. Já a venda direta, modelo adotado por outras duas gigantes, Avon e Natura, fechou 2011 com um volume de R$ 27,2 bilhões, segundo a Associação Brasileira de Empresas de Vendas Diretas (ABEVD). Em 2010 foram R$ 25,8 bilhões (os dados de 2012 ainda não foram divulgados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nda direta representa um desafio para Avon e Natura, que têm em suas representantes e consultoras a base de seu negócio – e não trabalham com franquias. O e-commerce poderia ser uma saída, não representasse um risco ao principal canal de vendas das companh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von, que tem no Brasil uma das suas principais operações em faturamento, mantém um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 que funciona como folheto onli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no qual é possível criar uma lista e enviar para uma revendedora de preferência, ou encontrar por meio de uma ferramenta com CEP, a representante mais próxima. Comprar e receber em casa, como um bom e tradicional site de e-commerce, não é possível. A empresa lançou, ainda, em outubro do ano passado, um aplicativo para iPad que é, na verdade, um catálogo. Assim como a página da empresa na internet, é possível colocar produtos em uma cesta, mas o pedido final é encaminhado a uma revendedora Avon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omunicado oficial enviado à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poca NEGÓC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 empresa afirmou acreditar “que o relacionamento é o principal elo do negócio da venda direta, por isso o e-commerce deve sempre estar associado ao trabalho das revendedoras”. Para bom entendedor, e-commerce sem revendedora, n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oja em parceria com o portal Submari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A página tem uma área onde o internauta pode encontrar uma consultora. Mas quem prefere fazer o pedido e receber em casa, tem essa opção. Chegar até a loja, no entanto, não é tão fácil. O link na página oficial da Natura, por exemplo, direciona o internauta para uma página inexistente. A Natura confirma que não promove a loja online e diz que seu projeto de e-commerce seria 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Vislumbramos um futuro no qual a relação entre consultoras e consumidores será ainda mais estreita e apoiada por alta tecnologia de informação e pelas redes sociais”, afirmou a Natura, por meio de um comun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27/01/2014 16:1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.A.C quer dobrar de tamanho no Brasil em três an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exame.abril.com.br/negocios/noticias/m-a-c-quer-dobrar-de-tamanho-no-brasil-em-tres-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.A.C vai inaugurar seu serviço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no Brasil. A jogada é uma das estratégias adotadas pela grife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qui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para dobrar seus negócios no Brasil em três 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ém de investir na internet, a marca da gigante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da Estée Lauder pretende, até 2016, dobrar o número de lojas físicas no país, que hoje estão perto d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 primeira vez na história da marca que baixamos os preços, o que mostra como o Brasil é importante para nós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elação ao mercado mundial de HPPC (Higiene Pessoal, Perfumaria e Cosméticos) os dados da Euromonitor de 2012, os três principais paíse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 Unidos  com 15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pão o segundo, com 10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sil com com 9,6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13 este setor cresceu mundialmente 1,4%, sendo que quatro dos dez maiores mercados França, Rússia, Itália e Alemanha) registraram qued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912000" y="3887640"/>
            <a:ext cx="316872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698480"/>
            <a:ext cx="90709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rasil representa 9,6% do mercado de cosméticos no mundo, sendo que a divisão das categorias mais representativa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primeiro: perfumaria e desodorant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ndo:  produtos para cabelos, produtos para higiene oral, produtos para os públicos masculino e infantil e proteção sola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ceiro: maquiage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arto: depilatórios e produtos para a pele (ABIHPEC, 201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92000" y="4032360"/>
            <a:ext cx="60483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isão do presidente da Abihpec, João Carlos Basilio, é sobre o crescimento consecutivo deste setor acima dos dois dígitos nos últimos 17 anos: “Entre eles, o aumento da expectativa de vida, a expansão da classe C, a modernização das fábricas e os ganhos de tecnologia e consequente produtividade”. Basílio também ressaltou a importância dos investimentos da indústria em inovação e P&amp;D: “Foram R$13,6 bilhões em Ativos, Pesquisa e Desenvolvimento e Fortalecimento de Marcas, um total 18% maior que em 2011. Em quatro anos dobramos os investimentos de R$6,6 milhões a R$13.6 milhões. São investimentos forte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59280" y="1440000"/>
            <a:ext cx="4319640" cy="59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16000" y="2554200"/>
            <a:ext cx="46800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dados do Target Group Index (IBOPE Media) o consumo de maquiagem no Brasil tem aumentado em todas as classes socioeconômicas, principais capitais e regiões metropolitanas do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cordo com a consultoria Euromonitor, a categoria movimentou no Brasil US$ 2.6 bilhões em 2012, posicionando o País como o terceiro maior do mun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904000" y="1368360"/>
            <a:ext cx="388944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pesquisas da Kanthar World Panel, as mulheres brasileiras estão se maquiando com mais frequência e demandando produtos de maior qualidade. Além disso, apenas metade destas mulheres usam maquiag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nte destes dados é possível entender o grande investimento das empresas nacionais em novas linhas e na renovação das linhas antigas, bem como a grande movimentação de marcas internaciona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240" y="2087640"/>
            <a:ext cx="57751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2000" y="2081160"/>
            <a:ext cx="648036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1280" y="1258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mundo a maquiagem é a terceira categoria em crescimento de vendas no período de 2001 a 20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360" y="4282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Brasil, o mercado de maquiagem apresenta grande crescimento, mas ainda  perde para outros produtos como tratamento para cabelos e pe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936720" y="5111640"/>
            <a:ext cx="7199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77800" y="165564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ústria cosmética nacional fundada em 1969 por Luiz Seabra como a Indústria e Comércio de Cosméticos Berjeaout Ltda em sociedade com Jean Pierre Berjeaout, que viria a se chamar Natura em poucos meses, devido à participação de ativos vegetais na composição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2009, ao completar 40 anos, atingiu a marca histórica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 milhão de consultoras e consultor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oje conta com mais de 20 marcas, entre produtos para cabelo, pele, maquiagem, perfumaria dentre outros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20880" y="4214880"/>
            <a:ext cx="8080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mercado de cosmé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tratividade do crescimento deste mercado faz com que sempre haja novos entrantes, nacionais e internacionais, em todos os canais de venda – varejo, franquia e vendas dire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, mesmo com todo dinamismo apenas 6 empresas detém 52% do mercado to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232000" y="3527280"/>
            <a:ext cx="468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16000" y="1827360"/>
            <a:ext cx="9431280" cy="47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8:33Z</dcterms:created>
  <dc:creator>Daniela Santos Ferreira</dc:creator>
  <dc:description/>
  <dc:language>en-US</dc:language>
  <cp:lastModifiedBy>DD</cp:lastModifiedBy>
  <dcterms:modified xsi:type="dcterms:W3CDTF">2014-03-10T19:32:36Z</dcterms:modified>
  <cp:revision>18</cp:revision>
  <dc:subject/>
  <dc:title>Natura – linha de maquiagem</dc:title>
</cp:coreProperties>
</file>